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6E977-BB70-43EB-98AC-4872685C4B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37E72-7361-4CC3-885C-B80D5DF42A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1AFC3-D6BF-4516-8E91-38DD8E4FFF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4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5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4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5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EFB02-A5FE-4B26-8C42-EF9533E271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E5E0E7-FE78-481C-8B48-0EF9DE25C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C9D4A-CFE7-45E1-9C69-7FB5400F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9BE4D-DFD2-4210-973B-46F9B86B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E087EB-163F-4594-AF34-271B765A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97BF7-6303-4F26-AD11-F6B33512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2A48D1-26EB-49D9-86B6-5FEC59F3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ADDB48-4FC9-48FA-B148-9C634FD2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88F5B-C57F-47A4-B402-9EE7E225C7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790487-ED08-420E-8728-9A0AF4E8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69CDF2-2243-44BD-A77B-95A67D72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B6D1C9-54BA-4FFE-9E0E-1BF7A17F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BFBDC-79AC-443B-91EC-2A87FF076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04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75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04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75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7D7C6E-E705-4EE3-9EE8-89D5C6BA9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4B5FD-8BE3-460A-BAA1-D59C79CB54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CBF31-F65C-491E-8D5F-6E4A37314A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CBB5B-A66E-4E9F-9ED3-3D37865B5E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F816C-56F1-45E6-B5D1-364EF86A36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6239A-21FA-47DF-800E-E8A44F9BCD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C1A56-ACF5-40D0-8D2B-7D688202F5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CFDB6-0289-4F00-AA41-0A3EC11648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Avenir LT 85 Heavy"/>
              </a:rPr>
              <a:t>Click to edit the title text forma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econd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Third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99"/>
              </a:buClr>
              <a:buFont typeface="Avenir LT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Four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4" marL="2036520" indent="-226080">
              <a:spcBef>
                <a:spcPts val="799"/>
              </a:spcBef>
              <a:buClr>
                <a:srgbClr val="006699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Fif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ix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even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5435280" y="6237360"/>
            <a:ext cx="3529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300" spc="-1" strike="noStrike" u="sng">
                <a:solidFill>
                  <a:srgbClr val="006699"/>
                </a:solidFill>
                <a:uFillTx/>
                <a:latin typeface="Avenir LT 55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 u="sng">
                <a:solidFill>
                  <a:srgbClr val="006699"/>
                </a:solidFill>
                <a:uFillTx/>
                <a:latin typeface="Avenir LT 55 Roman"/>
              </a:rPr>
              <a:t>- </a:t>
            </a:r>
            <a:fld id="{0B4EFF9D-8ABE-4F1F-8102-12CD3995CCAB}" type="slidenum">
              <a:rPr b="1" lang="fr-FR" sz="1300" spc="-1" strike="noStrike" u="sng">
                <a:solidFill>
                  <a:srgbClr val="006699"/>
                </a:solidFill>
                <a:uFillTx/>
                <a:latin typeface="Avenir LT 55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00" y="1557360"/>
            <a:ext cx="842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Avenir LT 85 Heavy"/>
              </a:rPr>
              <a:t>Click to edit the title text forma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28954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3F1E-C2CB-4BD8-B966-8841B52A4A6B}" type="slidenum"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venir LT 55 Roman"/>
              </a:rPr>
              <a:t>Second Outline Level</a:t>
            </a:r>
            <a:endParaRPr b="1" lang="en-US" sz="2800" spc="-1" strike="noStrike">
              <a:solidFill>
                <a:srgbClr val="006699"/>
              </a:solidFill>
              <a:latin typeface="Avenir LT 55 Roman"/>
            </a:endParaRPr>
          </a:p>
          <a:p>
            <a:pPr lvl="2" marL="914400" algn="ctr">
              <a:spcBef>
                <a:spcPts val="601"/>
              </a:spcBef>
              <a:buClr>
                <a:srgbClr val="9933ff"/>
              </a:buClr>
              <a:buFont typeface="Avenir LT 55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venir LT 55 Roman"/>
              </a:rPr>
              <a:t>Third Outline Level</a:t>
            </a:r>
            <a:endParaRPr b="1" lang="en-US" sz="2400" spc="-1" strike="noStrike">
              <a:solidFill>
                <a:srgbClr val="006699"/>
              </a:solidFill>
              <a:latin typeface="Avenir LT 55 Roman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Avenir LT 55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Four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Avenir LT 55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Fif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Six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Seven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40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4360" y="1413000"/>
            <a:ext cx="796896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World Trade in 2009 and 2010</a:t>
            </a:r>
            <a:endParaRPr b="0" lang="en-US" sz="35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Report submitted to the AIECE Autumn General Meet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Brussels, 4th-5th November 2009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By Alain Henrio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…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the consequence of an historical drop in trade flows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92360" y="2349360"/>
            <a:ext cx="5984640" cy="3780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476360" y="170028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Avenir LT 85 Heavy"/>
              </a:rPr>
              <a:t>World trade: an historical perspectiv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60040-61C9-48DF-9BDC-D79E8D3331E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orld trade forecast: a strong rebound followed by a moderate growth (+7.4% in 2010 after -13.5% in 2009)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4119840" cy="4114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851280" y="1916280"/>
            <a:ext cx="6553080" cy="417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854BF-A469-4EDB-BAC8-0FC8519B0AA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Turning points of world trade and industrial production business cycles are very similar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7417080" cy="3745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476360" y="1628640"/>
            <a:ext cx="6985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Growth cycles of world imports and world industrial production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45A8A-B043-4BCD-B7E2-1BFF7EC830B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E2A6C-C81F-421B-A3AC-09DAF43B8EB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2320" y="33300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US" sz="3200" spc="-1" strike="noStrike">
                <a:solidFill>
                  <a:srgbClr val="006699"/>
                </a:solidFill>
                <a:latin typeface="Avenir LT 85 Heavy"/>
              </a:rPr>
              <a:t>First signals of a recovery were observed in emerging countries but no decoupling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20720" y="2708280"/>
            <a:ext cx="5837400" cy="3492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258920" y="193212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1A677-9658-4413-9E47-C6476830CD8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2320" y="33300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China played a leading role here, leading other Asian countries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193212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China: imports by main supplier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124000" y="2637000"/>
            <a:ext cx="5291280" cy="347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4DD8E-817B-4349-BD71-84231900493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The situation in other emerging countries remain heterogeneous regarding imports dynamism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3520" y="2421000"/>
            <a:ext cx="3751200" cy="3479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58920" y="170028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859280" y="2421000"/>
            <a:ext cx="388944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D76CB-77D6-48E9-A32A-2E8AE78C309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18864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We expect only a moderate growth of developed countries imports in 2010. No further gains of terms of trade in 2010 (transfers in 2009 of about 1% of GDP), but no inflationary pressure.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3520" y="2554200"/>
            <a:ext cx="4254480" cy="3467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258920" y="170028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859280" y="2565360"/>
          <a:ext cx="4165560" cy="338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2565360"/>
                    <a:ext cx="416556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5B652-1E39-4710-B3EE-846423976B7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847C3-843D-4E17-BEC3-8A5D9DC93AB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eakness of the dollar might slow the recovery in the Euro area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1844640"/>
            <a:ext cx="79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Avenir LT 85 Heavy"/>
              </a:rPr>
              <a:t>Price competitiveness: national export prices/competitors in a common currenc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83962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3BB30-D7E0-4276-BC4C-BF1698A9E44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the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Conten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47A6C-EB30-46A4-A6C3-7F5E9512998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Germany and Japan especially hit by the contraction of the sales of equipment goods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76360" y="2708280"/>
            <a:ext cx="6121440" cy="3454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11280" y="206064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99"/>
                </a:solidFill>
                <a:latin typeface="Avenir LT 85 Heavy"/>
              </a:rPr>
              <a:t>Value of exports (7 months 2009/7 months 2008, percentage change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487CB-2C5D-4ACC-9E3B-92C54A40DE7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B5FDE-AB3B-4123-9505-9FAA17D689D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Main trade imbalances have not been fully offset by the crisis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36" name=""/>
          <p:cNvSpPr/>
          <p:nvPr/>
        </p:nvSpPr>
        <p:spPr>
          <a:xfrm>
            <a:off x="1476360" y="1844640"/>
            <a:ext cx="583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Avenir LT 85 Heavy"/>
              </a:rPr>
              <a:t>Trade bala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79640" y="2781360"/>
            <a:ext cx="5078520" cy="300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999B4-577A-488D-A4DD-BDF6737910E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5280" y="1557360"/>
            <a:ext cx="8353440" cy="53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Downside risks </a:t>
            </a:r>
            <a:r>
              <a:rPr b="1" lang="en-GB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. </a:t>
            </a: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Would Europe and the U.S. find enough support from their internal demand to keep the global recovery continuing?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Overheating in China might trigger a double dip late 2010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Global imbalances raises a risk on the exchange rate system (crash of the dollar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As a consequence of trade deficits and high unemployment, the U.S. and Europe can be attracted by protectionist measure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Some risks of the forecas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76F8E-D991-4429-8942-1DC3D55186B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1557360"/>
            <a:ext cx="8353440" cy="38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 </a:t>
            </a: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Upside risks</a:t>
            </a:r>
            <a:r>
              <a:rPr b="1" i="1" lang="en-GB" sz="4400" spc="-1" strike="noStrike">
                <a:solidFill>
                  <a:srgbClr val="ff7c80"/>
                </a:solidFill>
                <a:latin typeface="Avenir LT 85 Heavy"/>
              </a:rPr>
              <a:t> </a:t>
            </a:r>
            <a:r>
              <a:rPr b="1" lang="en-GB" sz="44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. </a:t>
            </a: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The catching up process (huge output gap) might imply a quicker and longer economic growth of activity and trade than expected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Emerging countries could take the lead of world trade growth to satisfy internal need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Some risks of the forecas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E1271-D57F-4391-B3E7-40D446A78CE7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Financial and raw materials markets have given an early sign of the rebound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27848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2F648-6F5C-4D74-9135-C68F9797013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Raw material and energy prices have already strongly recovered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412040" cy="44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88960-3C9A-42B5-9BD6-7B859472C12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World economy fell into recession in 2008Q4 and 2009Q1 before registering a positive growth in 2009Q2, which should have been strengthened in 2009Q3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8280360" cy="43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5908A-B0C9-4474-95AC-6B185F1E7AE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2320" y="40428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orld industrial production back to previous trend (but a huge gap in terms of level)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051680" cy="428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F7AD3-546C-47AB-A238-1BF88180D68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33300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Most recent figures show a pick up in world trade during last summer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042920" y="1773360"/>
            <a:ext cx="7885080" cy="4613040"/>
            <a:chOff x="1042920" y="1773360"/>
            <a:chExt cx="7885080" cy="461304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1042920" y="1773360"/>
              <a:ext cx="6912000" cy="46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7451640" y="4051440"/>
              <a:ext cx="14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99"/>
                  </a:solidFill>
                  <a:latin typeface="Avenir LT 85 Heavy"/>
                </a:rPr>
                <a:t>* </a:t>
              </a:r>
              <a:r>
                <a:rPr b="1" lang="en-GB" sz="1200" spc="-1" strike="noStrike">
                  <a:solidFill>
                    <a:srgbClr val="006699"/>
                  </a:solidFill>
                  <a:latin typeface="Avenir LT 85 Heavy"/>
                </a:rPr>
                <a:t>(Sept. est.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21036-3D0F-450B-8BA9-06EF0B628CA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2200" spc="-1" strike="noStrike">
                <a:solidFill>
                  <a:srgbClr val="006699"/>
                </a:solidFill>
                <a:latin typeface="Avenir LT 85 Heavy"/>
              </a:rPr>
              <a:t>However, t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he use of « soft » data (here world PMI export order books) can be a bit misleading in the current context regarding the measure of the intensity of the rebound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89240" y="1981080"/>
            <a:ext cx="67784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007EC-67FD-42FC-8DB8-3D73E6D2EEE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Avenir LT 85 Heavy"/>
              </a:rPr>
              <a:t>The gap between the current level of world trade and the pre-crisis level remains huge…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280360" cy="46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5DBD0-BA53-4C1F-9B62-5750D77B9A7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4:57:24Z</dcterms:created>
  <dc:creator>Alain HENRIOT</dc:creator>
  <dc:description/>
  <dc:language>en-US</dc:language>
  <cp:lastModifiedBy>Fabienne Besson-Lhoste</cp:lastModifiedBy>
  <cp:lastPrinted>2002-05-22T13:54:52Z</cp:lastPrinted>
  <dcterms:modified xsi:type="dcterms:W3CDTF">2009-11-09T11:12:10Z</dcterms:modified>
  <cp:revision>385</cp:revision>
  <dc:subject/>
  <dc:title>World Trade in 2009 and 2010 - AIECE autumn general meeting 2009</dc:title>
</cp:coreProperties>
</file>