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B4EAE-9D95-4FB8-9265-695AC3CB7B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65EC0-DCE7-4C63-8D34-EBF23C820B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2A64E-42C0-4ABB-9BD6-62D5F046B4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1EE14-8E51-44BE-BE3B-643A8629B9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25BDB-6A88-4F60-B185-C4D13649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87872-A4BE-43D2-8503-1A959A01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AF867-EB23-4422-864C-DB7FF35F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14EFB-4A88-4D88-BC99-D5B86550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EF507-43AF-4170-9D2B-3778F45C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EBAA9-FA60-4BE2-ACDD-12E6CC88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8875B-603B-45C0-BA48-2D0AFE03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FB28A-EFB7-45D2-9DC3-00A3679962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F64F0-F515-42A2-972A-714B2A7A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DC0AD-A108-4FFF-88E2-25F4F6CC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464B3-2CBD-44CA-A818-C20338CA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8011D-D421-4924-85FE-692029BE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3D02D-D861-497D-9236-84A7DE5E7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4FF9F-B409-4084-AE5B-76CCE12648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A4F01-6711-4E70-9D76-41B679A7AE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9B81D-ABF7-4E55-8757-AD19E7B66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CF048-E6A7-485E-BB68-C83DA83EF7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69143-1B27-4FF0-A588-E2167C264D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468D5-A5BC-496B-9B45-8494E3462A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0D114-BB9E-4A95-ABD0-ABB138BA0F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203652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5435280" y="6237360"/>
            <a:ext cx="3529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 u="sng">
                <a:solidFill>
                  <a:srgbClr val="006699"/>
                </a:solidFill>
                <a:uFillTx/>
                <a:latin typeface="Avenir LT 55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- </a:t>
            </a:r>
            <a:fld id="{BDE3F522-9FA6-4EDC-844F-2A4E5D0C5F51}" type="slidenum"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00" y="1557360"/>
            <a:ext cx="842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28954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352A-222B-4EAB-948E-073D8596335E}" type="slidenum"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28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Avenir LT 55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24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40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4360" y="1413000"/>
            <a:ext cx="796896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World Trade in 2009 and 2010</a:t>
            </a:r>
            <a:endParaRPr b="0" lang="en-US" sz="35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Report submitted to the AIECE Autumn General Meet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russels, 4th-5th November 200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y Alain Henrio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…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the consequence of an historical drop in trade flow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5984640" cy="3780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476360" y="1700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Avenir LT 85 Heavy"/>
              </a:rPr>
              <a:t>World trade: an historical perspect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9B5D0-78DF-4AB2-B865-ED4084C5076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trade forecast: a strong rebound followed by a moderate growth (+7.4% in 2010 after -13.5% in 2009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411984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851280" y="1916280"/>
            <a:ext cx="6553080" cy="417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507D0-8899-4583-9DE4-05DAF93CE36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urning points of world trade and industrial production business cycles are very similar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417080" cy="3745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76360" y="1628640"/>
            <a:ext cx="69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Growth cycles of world imports and world industrial production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67307-F283-477E-9C38-87600F20C45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19534-3252-42ED-ACF2-5413C4D5F30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Avenir LT 85 Heavy"/>
              </a:rPr>
              <a:t>First signals of a recovery were observed in emerging countries but no decoupling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20720" y="2708280"/>
            <a:ext cx="5837400" cy="3492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A2ADC-62AA-4515-9473-9605DACBC6B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China played a leading role here, leading other Asian countrie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China: imports by main supplier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24000" y="2637000"/>
            <a:ext cx="5291280" cy="347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A6662-58DB-445D-A4C9-E0E00E1775C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he situation in other emerging countries remain heterogeneous regarding imports dynamism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2421000"/>
            <a:ext cx="3751200" cy="3479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388944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EE0C3-F198-4F3C-AF8E-AA93F16AB7E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18864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e expect only a moderate growth of developed countries imports in 2010. No further gains of terms of trade in 2010 (transfers in 2009 of about 1% of GDP), but no inflationary pressure.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2554200"/>
            <a:ext cx="4254480" cy="3467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859280" y="2565360"/>
          <a:ext cx="4165560" cy="33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2565360"/>
                    <a:ext cx="416556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AA0BE-3E44-4710-858E-B28BAD30A6A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D87B9-C28F-4C85-89A0-83D9E32BD5B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eakness of the dollar might slow the recovery in the Euro area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184464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Avenir LT 85 Heavy"/>
              </a:rPr>
              <a:t>Price competitiveness: national export prices/competitors in a common currenc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83962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0251F-62F6-401C-9901-B68DA805BAA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the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Conten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0780E-B390-4630-A1DC-A8AC842A9B9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Germany and Japan especially hit by the contraction of the sales of equipment good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6121440" cy="3454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11280" y="206064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99"/>
                </a:solidFill>
                <a:latin typeface="Avenir LT 85 Heavy"/>
              </a:rPr>
              <a:t>Value of exports (7 months 2009/7 months 2008, percentage change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5BFEC-1EEC-4533-88DB-1BA6DCC730B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8B5F9-C5CA-4E0D-8FAB-643E3CC3527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Main trade imbalances have not been fully offset by the crisi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1844640"/>
            <a:ext cx="58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Avenir LT 85 Heavy"/>
              </a:rPr>
              <a:t>Trade bal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078520" cy="300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812C8-F14B-4015-9365-44607924A11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1557360"/>
            <a:ext cx="8353440" cy="53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Downside risks </a:t>
            </a:r>
            <a:r>
              <a:rPr b="1" lang="en-GB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Would Europe and the U.S. find enough support from their internal demand to keep the global recovery continuing?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Overheating in China might trigger a double dip late 2010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Global imbalances raises a risk on the exchange rate system (crash of the dollar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As a consequence of trade deficits and high unemployment, the U.S. and Europe can be attracted by protectionist measure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2B922-E4C5-4BD5-8294-47D2C3444B8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557360"/>
            <a:ext cx="8353440" cy="38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Upside risks</a:t>
            </a:r>
            <a:r>
              <a:rPr b="1" i="1" lang="en-GB" sz="4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lang="en-GB" sz="44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The catching up process (huge output gap) might imply a quicker and longer economic growth of activity and trade than expected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Emerging countries could take the lead of world trade growth to satisfy internal need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1C0E6-451C-4B78-8289-212B55A0F377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Financial and raw materials markets have given an early sign of the reboun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27848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00BD6-6388-40D5-97FF-8F0982802C8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Raw material and energy prices have already strongly recovere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412040" cy="44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0E163-0425-4284-8F9D-B2A19E1CA9E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orld economy fell into recession in 2008Q4 and 2009Q1 before registering a positive growth in 2009Q2, which should have been strengthened in 2009Q3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280360" cy="43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84D4E-8B27-40A5-89EC-EBC2220DD05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2320" y="40428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industrial production back to previous trend (but a huge gap in terms of level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051680" cy="428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C19FA-1A68-4F32-9BB9-AA6A7C65FC4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33300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Most recent figures show a pick up in world trade during last summer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42920" y="1773360"/>
            <a:ext cx="7885080" cy="4613040"/>
            <a:chOff x="1042920" y="1773360"/>
            <a:chExt cx="7885080" cy="46130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1042920" y="1773360"/>
              <a:ext cx="6912000" cy="46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451640" y="4051440"/>
              <a:ext cx="14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99"/>
                  </a:solidFill>
                  <a:latin typeface="Avenir LT 85 Heavy"/>
                </a:rPr>
                <a:t>* </a:t>
              </a:r>
              <a:r>
                <a:rPr b="1" lang="en-GB" sz="1200" spc="-1" strike="noStrike">
                  <a:solidFill>
                    <a:srgbClr val="006699"/>
                  </a:solidFill>
                  <a:latin typeface="Avenir LT 85 Heavy"/>
                </a:rPr>
                <a:t>(Sept. est.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71F0A-A6C8-4E89-B948-C355B7E8822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2200" spc="-1" strike="noStrike">
                <a:solidFill>
                  <a:srgbClr val="006699"/>
                </a:solidFill>
                <a:latin typeface="Avenir LT 85 Heavy"/>
              </a:rPr>
              <a:t>However, t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he use of « soft » data (here world PMI export order books) can be a bit misleading in the current context regarding the measure of the intensity of the rebound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89240" y="1981080"/>
            <a:ext cx="67784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37182-443A-4CEE-9E63-0819038B063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Avenir LT 85 Heavy"/>
              </a:rPr>
              <a:t>The gap between the current level of world trade and the pre-crisis level remains huge…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8036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DEBB1-8F28-4E12-847F-76BDB90DF03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4:57:24Z</dcterms:created>
  <dc:creator>Alain HENRIOT</dc:creator>
  <dc:description/>
  <dc:language>en-US</dc:language>
  <cp:lastModifiedBy>Fabienne Besson-Lhoste</cp:lastModifiedBy>
  <cp:lastPrinted>2002-05-22T13:54:52Z</cp:lastPrinted>
  <dcterms:modified xsi:type="dcterms:W3CDTF">2009-11-09T11:12:10Z</dcterms:modified>
  <cp:revision>385</cp:revision>
  <dc:subject/>
  <dc:title>World Trade in 2009 and 2010 - AIECE autumn general meeting 2009</dc:title>
</cp:coreProperties>
</file>