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</p:sldIdLst>
  <p:sldSz cx="9907588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8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711000" y="746280"/>
            <a:ext cx="538308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9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0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EDED-9A21-4DDA-A510-99A9F0BC1E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83080" cy="37274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F031-CF0A-4842-8FA2-00BB8404524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83080" cy="37274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687C-FFFC-47A8-8262-D966379ACA5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83080" cy="372744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5AEF-6BB7-4856-A68E-DB057747118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83080" cy="372744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06C8-94AC-464A-A60D-F62F6D24B27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83080" cy="372744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0BFC-8D06-41F4-AEFC-5AF85984860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83080" cy="372744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816F-F3D9-4E01-92C0-A358600A146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83080" cy="372744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AE87-E501-4936-A7E0-A5655137B2F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83080" cy="372744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33F70-619B-4265-B6C7-6EE196F221F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83080" cy="372744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3F88-639A-4525-89FE-D06B7DA1244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83080" cy="37274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29EA-D7D8-4249-B43A-64A3137A9E9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83080" cy="372744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C1B1-709A-429A-81C1-FCF94119F24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83080" cy="372744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62FE-22B8-4E92-93AB-FC404D2445D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83080" cy="37274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2DEA-B6B1-43B2-B082-5C53DF18A7C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83080" cy="372744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BC40-F364-4B5A-9F05-619E81CB1C4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83080" cy="372744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B430-331E-4EF4-9275-E2018B3A998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83080" cy="37274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0B64-5E36-4616-A762-50239B2D73F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83080" cy="37274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097C-702E-476C-8538-0EFA0B6B519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83080" cy="372744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2906-0A8C-41E0-818F-6D1B97242C2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711360" y="746280"/>
            <a:ext cx="5383080" cy="372744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Espace réservé du numéro de diapositive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AC04-CC61-4987-980A-A4F02DB8661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A57C-A787-452A-98C2-1430D2FF5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78360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FC49-740F-4D6F-B360-EE2A3F83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B9205-5E4E-4688-992E-E68EA62B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3BCFC-2C70-4A3D-BAA5-4804441B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95000" y="15228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31DCA-30DD-40C3-99F3-138CD601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140759-26D2-4A85-BA85-2306061B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634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D3F065-425B-4C9B-A775-0C9E314C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5130F-1EE2-4A5C-B0B2-271686A9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95000" y="378360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4834BE-BF15-455A-BECA-CFF9AD90F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0634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AD1DA-7017-42CE-BB0D-0155D6019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50964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52428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9500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50964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52428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F2668-0C72-49ED-AB03-814954632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F617-4588-48DA-A38B-A0E9F57AB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0553-8009-426B-BF13-B8B5C1D8E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AAB7-9D0B-4F8E-8D36-7BF1BC347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5AD2-3345-42AD-895C-6DB989FF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FBF1-5FC4-4EC3-87F9-5A5282DC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2732-A4E4-41AA-B9C4-4EEE3CD5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A147-8832-4969-8258-75A5C56C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95000" y="15228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6878-6B95-4914-9114-763BC7AF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D469-0409-4727-9513-092C672B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DAFB-C589-456C-9DA3-3E40534C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634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129A-D42D-490D-B607-5A8FB42F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DECA-CB32-494E-8454-C8BC1CCB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5000" y="378360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319B-68CC-48B3-A826-525464E1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634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9CE1-0A88-42CD-B40B-DCDF3A49B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0964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2428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500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0964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2428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A91F-7055-48FC-AF4A-4974B051D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58665-2B10-43CD-B6CD-E3847D6B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1D108-BDC7-47AE-AE6A-870FBCFD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49F67-BDD3-4D90-8618-161E1D9D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6B248-E586-4149-9797-0FF3F328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EF835-869C-42DA-88BC-D3498E28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ECB9-90B6-4B19-93B7-0C677041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95000" y="15228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4FDD8-FBD4-4C14-8735-EF6C8845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07CAE-D5D9-4680-B7F2-081F3D3C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634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46E82-BCA0-486C-862D-EB9B7B4E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63C3C-2492-45D5-88C6-2880974C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5000" y="378360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B7E13-3E6B-4D0A-B53D-FF26A030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0634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3CB0E-69C4-4B8E-9C12-0B47E2A06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0964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52428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9500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0964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52428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14F8C-B131-493F-8C0A-67E8BDC8F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D0253-66F5-4F5D-A54F-E37A3436B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B854A-95AD-4F8C-B033-652F411B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F6154-7385-471A-8E3C-A41ED680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48D5-890A-4D9C-AB83-ABC4534A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03BBA-8381-4950-B85E-A029E449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1B975-FDA9-4478-864B-025DE22D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95000" y="15228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4D97E-8753-457F-A893-0FE6E097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A2DC8-7701-4E14-92BB-16DBF99B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634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E078F-BD10-48E1-97F2-E58F0A47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3DDCD-0822-45C0-8591-1FAFFA70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5000" y="378360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170FB-CCFC-462A-B211-27B126DF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0634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3605B-CB80-488C-AC39-82ED3AE8F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50964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52428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9500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50964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52428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BC07A-8D19-4738-8589-11938F739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3E5F9-A734-4E5B-86FC-4F79DFFB2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031E-6B04-41B2-B0E7-6ED0A8C3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9A97B-BFE3-486A-BBE6-A6D7633F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00265-3608-40E0-AB98-14371FF9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ABDF3-DE70-4305-8EC6-EE217362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BF86A-4CC4-43EB-9785-17324778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95000" y="15228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903B8-88DD-4B23-82F4-55628232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552E5-AC4D-4CD5-BA10-A7AA753B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634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2AF87-ACF0-4C45-8150-E771DF8E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741D5-7615-4C99-898A-874D0409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5000" y="378360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BF7CE-39C5-4CB5-BBC3-D6D29185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634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9B06F-E862-48B2-95F0-0BD3BCB1A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15228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A3B0-2392-4003-B068-08C0250C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0964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52428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9500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50964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52428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CEDEB-9BAE-4D09-95D9-48F6D244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424BD-92FC-4457-AF8A-64B62FC4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28326-BDA2-46EF-B953-680C9DA5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F5080-BB1B-4748-AC7D-D92279BA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E91A7-ACCB-40D0-94F8-AF15BEB5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D9DD2-F653-45F4-96A8-493CA5ED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5000" y="15228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A77AE-D86E-491D-8520-D581855A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E5814-E4F5-44A3-80DC-B69E1FBB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634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3D5D5-845E-48C8-A0E0-9EEC9C7C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42B68-D366-4851-93E5-BC9777B0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093F-07EA-457B-AFE8-2C98A718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5000" y="378360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9B79C-27B2-46D0-9F91-BF4042D3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50634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12A61-A5B6-4FF2-8EF6-DC75CE5DD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0964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52428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500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50964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52428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C7BCE-8BBF-44C0-B6D7-64698AF43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A066E-6760-465E-88A2-B12BD8D45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BE980-AF2A-49C6-9128-38ADAC59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2E47C-B469-4CB0-B5E1-01CCC204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3AB43-04C0-4D61-977B-0EE92A69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10B74-C603-4337-BF52-61A632D8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95000" y="15228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F2624-5E92-4776-BB59-08B092F8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E8A96-FFC4-492E-AC58-9AFD3A97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D38D-75B2-4ECB-8190-40195411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634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E5E43-1C5A-4E34-9193-FEE10E8E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E509A-0E22-45F1-88A0-C8A8D604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5000" y="378360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E5C51-47FD-4F9A-A939-ECDEF70C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50634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7B552-76BB-4C13-83F7-947FAD86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50964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52428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500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50964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52428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ABBB5-6724-4D22-A4D7-1BE10BC08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8DBD03-FEEC-4309-A8DE-5919C23EC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4EBF1-1149-4D01-9129-F34137D5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AB086-BE2A-435C-B78B-04EA1E02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25A8E-057D-4C0E-8AA2-46D387E9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7965F-ED76-4DB7-858C-8CDAED11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3A8D-7CA3-4D48-BB39-F0BCD825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95000" y="152280"/>
            <a:ext cx="8915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7F695-3D1E-42D9-8EDD-58AA4DFC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1CD02-B0BE-43AD-A864-B5B40885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634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DECE7-22C1-4678-9666-C089815F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A750E-DE71-4436-9A49-E27DEFCA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95000" y="3783600"/>
            <a:ext cx="89154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FDCE5-8E23-496F-B2E3-128226E0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063400" y="121896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950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063400" y="3783600"/>
            <a:ext cx="4350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BA846-8756-4898-B872-07565DC81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0964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524280" y="121896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9500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50964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524280" y="3783600"/>
            <a:ext cx="287064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42376-E67E-4941-9CD6-9468070B9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96B31-6C56-4560-8637-B2A8F7833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BC689D-9512-453C-A36E-B8940CA9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61A81-97F3-4AEC-94EF-D75AE90F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34320" y="6356520"/>
            <a:ext cx="2479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1669-2861-41EA-AF2B-004FB724247B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992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64653"/>
                </a:solidFill>
                <a:latin typeface="Times New Roman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3480" y="6356520"/>
            <a:ext cx="214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8A19-5F7F-4BDF-8599-C028B2923975}" type="slidenum">
              <a:rPr b="0" lang="fr-F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Connecteur droit 27"/>
          <p:cNvSpPr/>
          <p:nvPr/>
        </p:nvSpPr>
        <p:spPr>
          <a:xfrm>
            <a:off x="495360" y="6353280"/>
            <a:ext cx="89154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onnecteur droit 28"/>
          <p:cNvSpPr/>
          <p:nvPr/>
        </p:nvSpPr>
        <p:spPr>
          <a:xfrm>
            <a:off x="495360" y="1143000"/>
            <a:ext cx="89154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riangle isocèle 9"/>
          <p:cNvSpPr/>
          <p:nvPr/>
        </p:nvSpPr>
        <p:spPr>
          <a:xfrm rot="5400000">
            <a:off x="461880" y="6462360"/>
            <a:ext cx="190440" cy="13032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933960" y="6354360"/>
            <a:ext cx="2476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4A77-AAEA-4DC4-99C1-C291D0E40027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39920" y="6354360"/>
            <a:ext cx="37641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64653"/>
                </a:solidFill>
                <a:latin typeface="Times New Roman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317240" y="6354360"/>
            <a:ext cx="13208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0292-F91C-4135-9118-A56F01E5AC7E}" type="slidenum">
              <a:rPr b="0" lang="fr-F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Connecteur droit 27"/>
          <p:cNvSpPr/>
          <p:nvPr/>
        </p:nvSpPr>
        <p:spPr>
          <a:xfrm>
            <a:off x="495360" y="6353280"/>
            <a:ext cx="89154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onnecteur droit 28"/>
          <p:cNvSpPr/>
          <p:nvPr/>
        </p:nvSpPr>
        <p:spPr>
          <a:xfrm>
            <a:off x="495360" y="1143000"/>
            <a:ext cx="89154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riangle isocèle 9"/>
          <p:cNvSpPr/>
          <p:nvPr/>
        </p:nvSpPr>
        <p:spPr>
          <a:xfrm rot="5400000">
            <a:off x="461880" y="6462360"/>
            <a:ext cx="190440" cy="13032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"/>
          <p:cNvSpPr/>
          <p:nvPr/>
        </p:nvSpPr>
        <p:spPr>
          <a:xfrm>
            <a:off x="1380960" y="620640"/>
            <a:ext cx="71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ttes et monnaie de si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934320" y="6356520"/>
            <a:ext cx="2479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7800-CF64-46B1-AD9D-854401907931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3992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63480" y="6356520"/>
            <a:ext cx="214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1443-3F16-4988-A7C1-D2B98A249EA7}" type="slidenum">
              <a:rPr b="0" lang="fr-F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0"/>
          <p:cNvSpPr/>
          <p:nvPr/>
        </p:nvSpPr>
        <p:spPr>
          <a:xfrm>
            <a:off x="990720" y="2819520"/>
            <a:ext cx="792468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990720" y="2819520"/>
            <a:ext cx="24768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933960" y="6354360"/>
            <a:ext cx="2476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C90F-79C2-4B00-B8B9-1213618DA266}" type="datetime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39920" y="6354360"/>
            <a:ext cx="37641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e9ec"/>
                </a:solidFill>
                <a:latin typeface="Times New Roman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1158480" y="6354360"/>
            <a:ext cx="16477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75FC-D0F5-44BC-9A84-C216E855D8DE}" type="slidenum">
              <a:rPr b="0" lang="fr-F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Connecteur droit 27"/>
          <p:cNvSpPr/>
          <p:nvPr/>
        </p:nvSpPr>
        <p:spPr>
          <a:xfrm>
            <a:off x="495360" y="6353280"/>
            <a:ext cx="89154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Connecteur droit 28"/>
          <p:cNvSpPr/>
          <p:nvPr/>
        </p:nvSpPr>
        <p:spPr>
          <a:xfrm>
            <a:off x="495360" y="1143000"/>
            <a:ext cx="89154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riangle isocèle 9"/>
          <p:cNvSpPr/>
          <p:nvPr/>
        </p:nvSpPr>
        <p:spPr>
          <a:xfrm rot="5400000">
            <a:off x="461880" y="6462360"/>
            <a:ext cx="190440" cy="13032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riangle isocèle 10"/>
          <p:cNvSpPr/>
          <p:nvPr/>
        </p:nvSpPr>
        <p:spPr>
          <a:xfrm rot="5400000">
            <a:off x="461880" y="6462360"/>
            <a:ext cx="190440" cy="13032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1386000" y="60156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ttes et monnaie de si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934320" y="6356520"/>
            <a:ext cx="2479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030B-1CB6-4B10-8507-E70EDBE110D7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3992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64653"/>
                </a:solidFill>
                <a:latin typeface="Times New Roman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63480" y="6356520"/>
            <a:ext cx="214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A6EE-2941-48A1-AA82-E098567C5423}" type="slidenum">
              <a:rPr b="0" lang="fr-F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Connecteur droit 10"/>
          <p:cNvSpPr/>
          <p:nvPr/>
        </p:nvSpPr>
        <p:spPr>
          <a:xfrm>
            <a:off x="495360" y="6353280"/>
            <a:ext cx="89154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riangle isocèle 11"/>
          <p:cNvSpPr/>
          <p:nvPr/>
        </p:nvSpPr>
        <p:spPr>
          <a:xfrm rot="5400000">
            <a:off x="461880" y="6462360"/>
            <a:ext cx="190440" cy="13032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6934320" y="6356520"/>
            <a:ext cx="2479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ECE5-4211-4979-8ECB-F97987F83D89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13992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64653"/>
                </a:solidFill>
                <a:latin typeface="Times New Roman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63480" y="6356520"/>
            <a:ext cx="214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F13B-2236-4ED9-B6C9-A5BBE81BB772}" type="slidenum">
              <a:rPr b="0" lang="fr-F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Connecteur droit 10"/>
          <p:cNvSpPr/>
          <p:nvPr/>
        </p:nvSpPr>
        <p:spPr>
          <a:xfrm>
            <a:off x="495360" y="6353280"/>
            <a:ext cx="89154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Connecteur droit 11"/>
          <p:cNvSpPr/>
          <p:nvPr/>
        </p:nvSpPr>
        <p:spPr>
          <a:xfrm>
            <a:off x="669276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riangle isocèle 12"/>
          <p:cNvSpPr/>
          <p:nvPr/>
        </p:nvSpPr>
        <p:spPr>
          <a:xfrm rot="5400000">
            <a:off x="461880" y="6462360"/>
            <a:ext cx="190440" cy="13032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934320" y="6356520"/>
            <a:ext cx="2479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24B7-62B0-43FF-9268-B7F654FD3C71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20"/>
          </p:nvPr>
        </p:nvSpPr>
        <p:spPr>
          <a:xfrm>
            <a:off x="313992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64653"/>
                </a:solidFill>
                <a:latin typeface="Times New Roman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21"/>
          </p:nvPr>
        </p:nvSpPr>
        <p:spPr>
          <a:xfrm>
            <a:off x="663480" y="6356520"/>
            <a:ext cx="214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ECD6-054B-4DB9-A48E-00619063561C}" type="slidenum">
              <a:rPr b="0" lang="fr-F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Connecteur droit 10"/>
          <p:cNvSpPr/>
          <p:nvPr/>
        </p:nvSpPr>
        <p:spPr>
          <a:xfrm>
            <a:off x="495360" y="6353280"/>
            <a:ext cx="89154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riangle isocèle 11"/>
          <p:cNvSpPr/>
          <p:nvPr/>
        </p:nvSpPr>
        <p:spPr>
          <a:xfrm rot="5400000">
            <a:off x="461880" y="6462360"/>
            <a:ext cx="190440" cy="13032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495360" y="500040"/>
            <a:ext cx="19836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934320" y="6356520"/>
            <a:ext cx="2479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0105-C52A-44C8-AFB0-3868FA2D594C}" type="datetime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313992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dde9ec"/>
                </a:solidFill>
                <a:latin typeface="Times New Roman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663480" y="6356520"/>
            <a:ext cx="214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5321-B671-428B-8613-D561CB856FAA}" type="slidenum">
              <a:rPr b="0" lang="fr-F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Connecteur droit 10"/>
          <p:cNvSpPr/>
          <p:nvPr/>
        </p:nvSpPr>
        <p:spPr>
          <a:xfrm>
            <a:off x="495360" y="6353280"/>
            <a:ext cx="89154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riangle isocèle 11"/>
          <p:cNvSpPr/>
          <p:nvPr/>
        </p:nvSpPr>
        <p:spPr>
          <a:xfrm rot="5400000">
            <a:off x="461880" y="6462360"/>
            <a:ext cx="190440" cy="13032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Connecteur droit 14"/>
          <p:cNvSpPr/>
          <p:nvPr/>
        </p:nvSpPr>
        <p:spPr>
          <a:xfrm>
            <a:off x="710244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9500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934320" y="6356520"/>
            <a:ext cx="2479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68B7-D6C3-4BD7-9936-7838A245454E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313992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64653"/>
                </a:solidFill>
                <a:latin typeface="Times New Roman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663480" y="6356520"/>
            <a:ext cx="214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AB94-FFBF-4E2A-B704-9941A003675E}" type="slidenum">
              <a:rPr b="0" lang="fr-F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3"/>
          <p:cNvSpPr/>
          <p:nvPr/>
        </p:nvSpPr>
        <p:spPr>
          <a:xfrm>
            <a:off x="2792520" y="1268280"/>
            <a:ext cx="3673440" cy="5445360"/>
          </a:xfrm>
          <a:prstGeom prst="rect">
            <a:avLst/>
          </a:prstGeom>
          <a:solidFill>
            <a:srgbClr val="fdf0ca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tre 1"/>
          <p:cNvSpPr/>
          <p:nvPr/>
        </p:nvSpPr>
        <p:spPr>
          <a:xfrm>
            <a:off x="781200" y="333360"/>
            <a:ext cx="8420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464653"/>
                </a:solidFill>
                <a:latin typeface="Bookman Old Style"/>
              </a:rPr>
              <a:t>COE -REXECODE </a:t>
            </a:r>
            <a:br>
              <a:rPr sz="3600"/>
            </a:br>
            <a:r>
              <a:rPr b="0" lang="fr-FR" sz="2400" spc="-1" strike="noStrike">
                <a:solidFill>
                  <a:srgbClr val="464653"/>
                </a:solidFill>
                <a:latin typeface="Bookman Old Style"/>
              </a:rPr>
              <a:t>1</a:t>
            </a:r>
            <a:r>
              <a:rPr b="0" lang="fr-FR" sz="2400" spc="-1" strike="noStrike" baseline="30000">
                <a:solidFill>
                  <a:srgbClr val="464653"/>
                </a:solidFill>
                <a:latin typeface="Bookman Old Style"/>
              </a:rPr>
              <a:t>er</a:t>
            </a:r>
            <a:r>
              <a:rPr b="0" lang="fr-FR" sz="2400" spc="-1" strike="noStrike">
                <a:solidFill>
                  <a:srgbClr val="464653"/>
                </a:solidFill>
                <a:latin typeface="Bookman Old Style"/>
              </a:rPr>
              <a:t> décembre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ous-titre 2"/>
          <p:cNvSpPr/>
          <p:nvPr/>
        </p:nvSpPr>
        <p:spPr>
          <a:xfrm>
            <a:off x="2433600" y="1341360"/>
            <a:ext cx="35989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ts val="3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Hub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3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Roda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4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4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Dettes </a:t>
            </a:r>
            <a:r>
              <a:rPr b="0" lang="fr-FR" sz="26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e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4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monnai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40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de</a:t>
            </a:r>
            <a:r>
              <a:rPr b="0" lang="fr-FR" sz="44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 si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Un système économ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à renouve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1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e0000"/>
                </a:solidFill>
                <a:latin typeface="Monotype Corsiva"/>
                <a:ea typeface="Segoe UI"/>
              </a:rPr>
              <a:t>f o r u m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1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e0000"/>
                </a:solidFill>
                <a:latin typeface="Monotype Corsiva"/>
                <a:ea typeface="Segoe UI"/>
              </a:rPr>
              <a:t>--------------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11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e0000"/>
                </a:solidFill>
                <a:latin typeface="Times New Roman"/>
                <a:ea typeface="Times New Roman"/>
              </a:rPr>
              <a:t>SALV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Espace réservé du numéro de diapositive 1"/>
          <p:cNvSpPr/>
          <p:nvPr/>
        </p:nvSpPr>
        <p:spPr>
          <a:xfrm>
            <a:off x="663480" y="6356520"/>
            <a:ext cx="2146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9DF71-BD25-4C3F-87CC-74A3FE722DD0}" type="slidenum">
              <a:rPr b="0" lang="fr-FR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560520" y="1268280"/>
            <a:ext cx="90201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Gill Sans MT"/>
              </a:rPr>
              <a:t>La dette américaine ou plutôt les dettes des agents américain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just">
              <a:lnSpc>
                <a:spcPct val="14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Processus croissant en % du PIB de 1980 à 2008, sans correction ;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just">
              <a:lnSpc>
                <a:spcPct val="14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Le poids des banques de 20% à 150% PIB :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just">
              <a:lnSpc>
                <a:spcPct val="140000"/>
              </a:lnSpc>
              <a:spcBef>
                <a:spcPts val="400"/>
              </a:spcBef>
              <a:buClr>
                <a:srgbClr val="8ba2b4"/>
              </a:buClr>
              <a:buSzPct val="7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Besoin de fonds propres de 1,6% PIB à 12% PIB (?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just">
              <a:lnSpc>
                <a:spcPct val="14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 écroulement du système avant l’arrivée des défauts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just">
              <a:lnSpc>
                <a:spcPct val="140000"/>
              </a:lnSpc>
              <a:spcBef>
                <a:spcPts val="400"/>
              </a:spcBef>
              <a:buClr>
                <a:srgbClr val="8ba2b4"/>
              </a:buClr>
              <a:buSzPct val="70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e implosion sans choc externe.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 algn="just">
              <a:lnSpc>
                <a:spcPct val="14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Gill Sans MT"/>
              </a:rPr>
              <a:t>Conclusion : 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un exemple-type du phénomène qui aurait dû être :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 algn="just">
              <a:lnSpc>
                <a:spcPct val="90000"/>
              </a:lnSpc>
              <a:spcBef>
                <a:spcPts val="400"/>
              </a:spcBef>
              <a:buClr>
                <a:srgbClr val="8ba2b4"/>
              </a:buClr>
              <a:buSzPct val="7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Gill Sans MT"/>
              </a:rPr>
              <a:t>D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étecté (par la Fed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4" marL="2151000" indent="-3222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-    Analysé (par l’Université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4" marL="2151000" indent="-3222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-    Combattu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4" marL="2151000" indent="-3222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             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-     Régulé par un dispositif efficace de rétroaction (feedback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Espace réservé du pied de page 3"/>
          <p:cNvSpPr/>
          <p:nvPr/>
        </p:nvSpPr>
        <p:spPr>
          <a:xfrm>
            <a:off x="313992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Espace réservé du numéro de diapositive 1"/>
          <p:cNvSpPr/>
          <p:nvPr/>
        </p:nvSpPr>
        <p:spPr>
          <a:xfrm>
            <a:off x="663480" y="6356520"/>
            <a:ext cx="2146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AA20-FEB7-49CC-9D4E-B43E5913B7E8}" type="slidenum">
              <a:rPr b="0" lang="fr-FR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88880" y="2709360"/>
            <a:ext cx="8928000" cy="30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Une représentation erronée de l’incertitude est au cœur des modèles d’activité, des dispositifs comptables et prudentiel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ZoneTexte 5"/>
          <p:cNvSpPr/>
          <p:nvPr/>
        </p:nvSpPr>
        <p:spPr>
          <a:xfrm>
            <a:off x="488880" y="1220760"/>
            <a:ext cx="89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Pourquoi la montée des dettes n’a-t-elle pas été détecté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Un DIAGNOSTIC scientifique établi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Diagramme 3" descr=""/>
          <p:cNvPicPr/>
          <p:nvPr/>
        </p:nvPicPr>
        <p:blipFill>
          <a:blip r:embed="rId1"/>
          <a:stretch/>
        </p:blipFill>
        <p:spPr>
          <a:xfrm>
            <a:off x="353880" y="3060720"/>
            <a:ext cx="9180720" cy="2674800"/>
          </a:xfrm>
          <a:prstGeom prst="rect">
            <a:avLst/>
          </a:prstGeom>
          <a:ln w="0">
            <a:noFill/>
          </a:ln>
        </p:spPr>
      </p:pic>
      <p:sp>
        <p:nvSpPr>
          <p:cNvPr id="500" name="ZoneTexte 6"/>
          <p:cNvSpPr/>
          <p:nvPr/>
        </p:nvSpPr>
        <p:spPr>
          <a:xfrm>
            <a:off x="344520" y="6021360"/>
            <a:ext cx="900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Voir :actes du colloque du 29 nov. 2009 Paris dans « Nouvelles normes financières, s’organiser face à la crise Ch. WALTER(dir.) éd. Springer 2010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Espace réservé du pied de page 7"/>
          <p:cNvSpPr/>
          <p:nvPr/>
        </p:nvSpPr>
        <p:spPr>
          <a:xfrm>
            <a:off x="313992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Espace réservé du numéro de diapositive 1"/>
          <p:cNvSpPr/>
          <p:nvPr/>
        </p:nvSpPr>
        <p:spPr>
          <a:xfrm>
            <a:off x="663480" y="6356520"/>
            <a:ext cx="2146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E696-A22E-4DFC-9E9D-4D713236B156}" type="slidenum">
              <a:rPr b="0" lang="fr-FR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272880" y="1341360"/>
            <a:ext cx="91440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just">
              <a:spcBef>
                <a:spcPts val="601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Conséquences : un « risque » gérable et utile  car il est reconnu comme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4" name="Diagramme 4" descr=""/>
          <p:cNvPicPr/>
          <p:nvPr/>
        </p:nvPicPr>
        <p:blipFill>
          <a:blip r:embed="rId1"/>
          <a:stretch/>
        </p:blipFill>
        <p:spPr>
          <a:xfrm>
            <a:off x="633240" y="1835280"/>
            <a:ext cx="8547120" cy="4413240"/>
          </a:xfrm>
          <a:prstGeom prst="rect">
            <a:avLst/>
          </a:prstGeom>
          <a:ln w="0">
            <a:noFill/>
          </a:ln>
        </p:spPr>
      </p:pic>
      <p:sp>
        <p:nvSpPr>
          <p:cNvPr id="505" name="ZoneTexte 6"/>
          <p:cNvSpPr/>
          <p:nvPr/>
        </p:nvSpPr>
        <p:spPr>
          <a:xfrm>
            <a:off x="7256520" y="2938320"/>
            <a:ext cx="1944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réation d’activités ex nih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à parti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’outils mathématiq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e « nouvelle frontière » est ainsi à repous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ZoneTexte 8"/>
          <p:cNvSpPr/>
          <p:nvPr/>
        </p:nvSpPr>
        <p:spPr>
          <a:xfrm>
            <a:off x="4232160" y="2708280"/>
            <a:ext cx="1935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transfert et la ges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Couverture / assurance) sont possi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lus de limite au volume d’activ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ZoneTexte 9"/>
          <p:cNvSpPr/>
          <p:nvPr/>
        </p:nvSpPr>
        <p:spPr>
          <a:xfrm>
            <a:off x="1065240" y="2997360"/>
            <a:ext cx="18511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’est pratique pour tous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gulateur, acte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n sait où on va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 théori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Espace réservé du pied de page 7"/>
          <p:cNvSpPr/>
          <p:nvPr/>
        </p:nvSpPr>
        <p:spPr>
          <a:xfrm>
            <a:off x="313992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Ellipse 3"/>
          <p:cNvGrpSpPr/>
          <p:nvPr/>
        </p:nvGrpSpPr>
        <p:grpSpPr>
          <a:xfrm>
            <a:off x="4668840" y="1657440"/>
            <a:ext cx="4737240" cy="1164960"/>
            <a:chOff x="4668840" y="1657440"/>
            <a:chExt cx="4737240" cy="1164960"/>
          </a:xfrm>
        </p:grpSpPr>
        <p:pic>
          <p:nvPicPr>
            <p:cNvPr id="510" name="Ellipse 3" descr=""/>
            <p:cNvPicPr/>
            <p:nvPr/>
          </p:nvPicPr>
          <p:blipFill>
            <a:blip r:embed="rId1"/>
            <a:stretch/>
          </p:blipFill>
          <p:spPr>
            <a:xfrm>
              <a:off x="4668840" y="1657440"/>
              <a:ext cx="473724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5411880" y="1851120"/>
              <a:ext cx="3259080" cy="73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Espace réservé du numéro de diapositive 3"/>
          <p:cNvSpPr/>
          <p:nvPr/>
        </p:nvSpPr>
        <p:spPr>
          <a:xfrm>
            <a:off x="663480" y="6356520"/>
            <a:ext cx="2146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E388-7642-4F59-AC74-F1132A77C2F0}" type="slidenum">
              <a:rPr b="0" lang="fr-FR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15440" y="1268280"/>
            <a:ext cx="90010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Conséquences pratiques et social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4" name="Tableau 7" descr=""/>
          <p:cNvPicPr/>
          <p:nvPr/>
        </p:nvPicPr>
        <p:blipFill>
          <a:blip r:embed="rId2"/>
          <a:stretch/>
        </p:blipFill>
        <p:spPr>
          <a:xfrm>
            <a:off x="55440" y="3230640"/>
            <a:ext cx="9794880" cy="3103560"/>
          </a:xfrm>
          <a:prstGeom prst="rect">
            <a:avLst/>
          </a:prstGeom>
          <a:ln w="0">
            <a:noFill/>
          </a:ln>
        </p:spPr>
      </p:pic>
      <p:grpSp>
        <p:nvGrpSpPr>
          <p:cNvPr id="515" name="Forme en L 2"/>
          <p:cNvGrpSpPr/>
          <p:nvPr/>
        </p:nvGrpSpPr>
        <p:grpSpPr>
          <a:xfrm>
            <a:off x="3633840" y="1736640"/>
            <a:ext cx="725400" cy="1006560"/>
            <a:chOff x="3633840" y="1736640"/>
            <a:chExt cx="725400" cy="1006560"/>
          </a:xfrm>
        </p:grpSpPr>
        <p:pic>
          <p:nvPicPr>
            <p:cNvPr id="516" name="Forme en L 2" descr=""/>
            <p:cNvPicPr/>
            <p:nvPr/>
          </p:nvPicPr>
          <p:blipFill>
            <a:blip r:embed="rId3"/>
            <a:stretch/>
          </p:blipFill>
          <p:spPr>
            <a:xfrm>
              <a:off x="3633840" y="1736640"/>
              <a:ext cx="72540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 rot="13494600">
              <a:off x="3692520" y="1963440"/>
              <a:ext cx="628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8" name="Diagramme 1" descr=""/>
          <p:cNvPicPr/>
          <p:nvPr/>
        </p:nvPicPr>
        <p:blipFill>
          <a:blip r:embed="rId4"/>
          <a:stretch/>
        </p:blipFill>
        <p:spPr>
          <a:xfrm>
            <a:off x="208080" y="1511280"/>
            <a:ext cx="9448560" cy="1433520"/>
          </a:xfrm>
          <a:prstGeom prst="rect">
            <a:avLst/>
          </a:prstGeom>
          <a:ln w="0">
            <a:noFill/>
          </a:ln>
        </p:spPr>
      </p:pic>
      <p:sp>
        <p:nvSpPr>
          <p:cNvPr id="519" name="Espace réservé du pied de page 8"/>
          <p:cNvSpPr/>
          <p:nvPr/>
        </p:nvSpPr>
        <p:spPr>
          <a:xfrm>
            <a:off x="313992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Espace réservé du numéro de diapositive 1"/>
          <p:cNvSpPr/>
          <p:nvPr/>
        </p:nvSpPr>
        <p:spPr>
          <a:xfrm>
            <a:off x="663480" y="6356520"/>
            <a:ext cx="2146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4637-ADE9-4CC2-80EF-72824F166BA0}" type="slidenum">
              <a:rPr b="0" lang="fr-FR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44520" y="1153800"/>
            <a:ext cx="9080640" cy="54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Conséquences sociales et systémiques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22" name="Diagramme 3" descr=""/>
          <p:cNvPicPr/>
          <p:nvPr/>
        </p:nvPicPr>
        <p:blipFill>
          <a:blip r:embed="rId1"/>
          <a:stretch/>
        </p:blipFill>
        <p:spPr>
          <a:xfrm>
            <a:off x="201600" y="1407960"/>
            <a:ext cx="9496440" cy="5053320"/>
          </a:xfrm>
          <a:prstGeom prst="rect">
            <a:avLst/>
          </a:prstGeom>
          <a:ln w="0">
            <a:noFill/>
          </a:ln>
        </p:spPr>
      </p:pic>
      <p:sp>
        <p:nvSpPr>
          <p:cNvPr id="523" name="Espace réservé du pied de page 4"/>
          <p:cNvSpPr/>
          <p:nvPr/>
        </p:nvSpPr>
        <p:spPr>
          <a:xfrm>
            <a:off x="313992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Espace réservé du numéro de diapositive 1"/>
          <p:cNvSpPr/>
          <p:nvPr/>
        </p:nvSpPr>
        <p:spPr>
          <a:xfrm>
            <a:off x="663480" y="6356520"/>
            <a:ext cx="2146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AC82-6683-46AC-A352-C30CFB4CAEAE}" type="slidenum">
              <a:rPr b="0" lang="fr-FR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28520" y="1341360"/>
            <a:ext cx="96487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15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Finance :proposition de définition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ill Sans MT"/>
              </a:rPr>
              <a:t>Tout ce qui traite de la fabrication, de la gestion et du commerce d’engagements monétaires 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Engagement : Contrat qui lie deux parties sur une durée de temps sans flux matériel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 algn="just">
              <a:lnSpc>
                <a:spcPct val="15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Activité traitant principalement d’objets </a:t>
            </a:r>
            <a:r>
              <a:rPr b="1" lang="fr-FR" sz="1700" spc="-1" strike="noStrike">
                <a:solidFill>
                  <a:srgbClr val="000000"/>
                </a:solidFill>
                <a:latin typeface="Gill Sans MT"/>
              </a:rPr>
              <a:t>immatériels essentiellement liés au temporel 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1" marL="1254960" indent="-346320" algn="just">
              <a:lnSpc>
                <a:spcPct val="15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" charset="2"/>
              <a:buChar char="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64653"/>
                </a:solidFill>
                <a:latin typeface="Gill Sans MT"/>
              </a:rPr>
              <a:t>Emprunt/crédit, valeurs mobilières, titrisations, marchés à terme d’options, assurance-crédit etc…</a:t>
            </a:r>
            <a:endParaRPr b="0" lang="en-US" sz="1400" spc="-1" strike="noStrike">
              <a:solidFill>
                <a:srgbClr val="464653"/>
              </a:solidFill>
              <a:latin typeface="Gill Sans MT"/>
            </a:endParaRPr>
          </a:p>
          <a:p>
            <a:pPr marL="264600" indent="-264600" algn="just">
              <a:lnSpc>
                <a:spcPct val="15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Responsabilité 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1254960" indent="-34632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64653"/>
                </a:solidFill>
                <a:latin typeface="Gill Sans MT"/>
              </a:rPr>
              <a:t>La notion suppose d’intégrer dans le dispositif une prise en compte :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2" marL="1219680" indent="-443160" algn="just">
              <a:lnSpc>
                <a:spcPct val="15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des systèmes globaux 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1219680" indent="-443160" algn="just">
              <a:lnSpc>
                <a:spcPct val="15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des entités de toutes sortes en interaction avec l’objet régulé 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1254960" indent="-34632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64653"/>
                </a:solidFill>
                <a:latin typeface="Gill Sans MT"/>
              </a:rPr>
              <a:t>Mais aussi de favoriser les activités reconnues comme utiles socialement.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526" name="Espace réservé du pied de page 3"/>
          <p:cNvSpPr/>
          <p:nvPr/>
        </p:nvSpPr>
        <p:spPr>
          <a:xfrm>
            <a:off x="313992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Espace réservé du numéro de diapositive 1"/>
          <p:cNvSpPr/>
          <p:nvPr/>
        </p:nvSpPr>
        <p:spPr>
          <a:xfrm>
            <a:off x="663480" y="6356520"/>
            <a:ext cx="2146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A2F5-9D27-42E2-AB89-B0F211FD8F8B}" type="slidenum">
              <a:rPr b="0" lang="fr-FR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88880" y="1308240"/>
            <a:ext cx="8928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Les objectifs principaux des autorités publiques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Gill Sans MT"/>
              </a:rPr>
              <a:t>Prévenir le risque global / systémiqu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lang="fr-FR" sz="1800" spc="-1" strike="noStrike">
                <a:solidFill>
                  <a:srgbClr val="000000"/>
                </a:solidFill>
                <a:latin typeface="Gill Sans MT"/>
              </a:rPr>
              <a:t>Deux objectifs majeurs 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44316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4653"/>
                </a:solidFill>
                <a:latin typeface="Gill Sans MT"/>
              </a:rPr>
              <a:t>Objectif n°1 </a:t>
            </a:r>
            <a:r>
              <a:rPr b="1" lang="fr-FR" sz="1800" spc="-1" strike="noStrike">
                <a:solidFill>
                  <a:srgbClr val="464653"/>
                </a:solidFill>
                <a:latin typeface="Gill Sans MT"/>
              </a:rPr>
              <a:t>: la prévention des emballements collectifs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2" marL="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c00000"/>
                </a:solidFill>
                <a:uFillTx/>
                <a:latin typeface="Gill Sans MT"/>
              </a:rPr>
              <a:t>Points d’attentions</a:t>
            </a:r>
            <a:r>
              <a:rPr b="1" lang="fr-FR" sz="16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fr-FR" sz="1600" spc="-1" strike="noStrike">
                <a:solidFill>
                  <a:srgbClr val="c00000"/>
                </a:solidFill>
                <a:latin typeface="Gill Sans MT"/>
              </a:rPr>
              <a:t>:</a:t>
            </a: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 les bulles, les processus cumulatifs, les pratiques procycliques, le mimétisme, les comportements centraux 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c00000"/>
                </a:solidFill>
                <a:uFillTx/>
                <a:latin typeface="Gill Sans MT"/>
              </a:rPr>
              <a:t>Les acteurs principaux</a:t>
            </a:r>
            <a:r>
              <a:rPr b="1" lang="fr-FR" sz="16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: les banquiers centraux, les autorités systématiques nationales et internationales 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44316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64653"/>
                </a:solidFill>
                <a:latin typeface="Gill Sans MT"/>
              </a:rPr>
              <a:t>Objectif n°2 </a:t>
            </a:r>
            <a:r>
              <a:rPr b="1" lang="fr-FR" sz="1800" spc="-1" strike="noStrike">
                <a:solidFill>
                  <a:srgbClr val="464653"/>
                </a:solidFill>
                <a:latin typeface="Gill Sans MT"/>
              </a:rPr>
              <a:t>: la maîtrise des conséquences d’une défaillance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lvl="2" marL="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c00000"/>
                </a:solidFill>
                <a:uFillTx/>
                <a:latin typeface="Gill Sans MT"/>
              </a:rPr>
              <a:t>Points d’attentions</a:t>
            </a:r>
            <a:r>
              <a:rPr b="1" lang="fr-FR" sz="16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les situations potentielles de « </a:t>
            </a:r>
            <a:r>
              <a:rPr b="0" i="1" lang="fr-FR" sz="1600" spc="-1" strike="noStrike">
                <a:solidFill>
                  <a:srgbClr val="000000"/>
                </a:solidFill>
                <a:latin typeface="Gill Sans MT"/>
              </a:rPr>
              <a:t>moral hazard »</a:t>
            </a: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, pas de « </a:t>
            </a:r>
            <a:r>
              <a:rPr b="0" i="1" lang="fr-FR" sz="1600" spc="-1" strike="noStrike">
                <a:solidFill>
                  <a:srgbClr val="000000"/>
                </a:solidFill>
                <a:latin typeface="Gill Sans MT"/>
              </a:rPr>
              <a:t>too big to fail</a:t>
            </a: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 », pas de socialisation des pertes / privatisation des gains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4431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Implication à différents degrés de toutes les parties prenantes dans une situation défaillante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4431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c00000"/>
                </a:solidFill>
                <a:uFillTx/>
                <a:latin typeface="Gill Sans MT"/>
              </a:rPr>
              <a:t>Les acteurs principaux</a:t>
            </a:r>
            <a:r>
              <a:rPr b="1" lang="fr-FR" sz="16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: autorités de régulations, BCE, politique, pouvoir judiciaire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Espace réservé du pied de page 3"/>
          <p:cNvSpPr/>
          <p:nvPr/>
        </p:nvSpPr>
        <p:spPr>
          <a:xfrm>
            <a:off x="313992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Espace réservé du numéro de diapositive 2"/>
          <p:cNvSpPr/>
          <p:nvPr/>
        </p:nvSpPr>
        <p:spPr>
          <a:xfrm>
            <a:off x="663480" y="6356520"/>
            <a:ext cx="2146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22FB-02DB-4BC6-8F93-06F2A163680A}" type="slidenum">
              <a:rPr b="0" lang="fr-FR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209520" y="1197000"/>
            <a:ext cx="9447120" cy="34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Gill Sans MT"/>
              </a:rPr>
              <a:t>Trois axes principaux de réforme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447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</p:txBody>
      </p:sp>
      <p:pic>
        <p:nvPicPr>
          <p:cNvPr id="532" name="Diagramme 1" descr=""/>
          <p:cNvPicPr/>
          <p:nvPr/>
        </p:nvPicPr>
        <p:blipFill>
          <a:blip r:embed="rId1"/>
          <a:stretch/>
        </p:blipFill>
        <p:spPr>
          <a:xfrm>
            <a:off x="-19080" y="1695600"/>
            <a:ext cx="9991800" cy="4649760"/>
          </a:xfrm>
          <a:prstGeom prst="rect">
            <a:avLst/>
          </a:prstGeom>
          <a:ln w="0">
            <a:noFill/>
          </a:ln>
        </p:spPr>
      </p:pic>
      <p:sp>
        <p:nvSpPr>
          <p:cNvPr id="533" name="Espace réservé du pied de page 4"/>
          <p:cNvSpPr/>
          <p:nvPr/>
        </p:nvSpPr>
        <p:spPr>
          <a:xfrm>
            <a:off x="313992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64653"/>
                </a:solidFill>
                <a:latin typeface="Arial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95000" y="15228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64653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95000" y="1219320"/>
            <a:ext cx="928188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Un enjeu crucial : la réintroduction du temps et du bien commu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                                               </a:t>
            </a: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face à l’utopie de la mesure du risqu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Une situation déjà vécue dans les années avant 1929, détectée et source de contrepropositions dans les années 1930 et suivantes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1. Combattre une vision déterministe de l’économie :……..          Karl POLANYI (1886-1946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lvl="1" marL="709920" indent="-443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2. Face à une vision désagrégée de l’économie centrée sur l’individu face au marché:   retrouver le rôle des organisations (groupe, associations, entreprises, états..)…………..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709920" indent="-443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                                                                                             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John R. COMMONS (1862-1942)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709920" indent="-443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3. Face à la vision évaluative complexe et invérifiable des entreprises : </a:t>
            </a:r>
            <a:r>
              <a:rPr b="0" lang="fr-FR" sz="1700" spc="-1" strike="noStrike">
                <a:solidFill>
                  <a:srgbClr val="8e0000"/>
                </a:solidFill>
                <a:latin typeface="Gill Sans MT"/>
              </a:rPr>
              <a:t>on peut agir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709920" indent="-443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l’adoption par les Etats Unis de la comptabilité en coûts historiques amortis en 1935…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  <a:p>
            <a:pPr lvl="1" marL="709920" indent="-443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                                                                                                 </a:t>
            </a:r>
            <a:r>
              <a:rPr b="0" lang="fr-FR" sz="1700" spc="-1" strike="noStrike">
                <a:solidFill>
                  <a:srgbClr val="000000"/>
                </a:solidFill>
                <a:latin typeface="Gill Sans MT"/>
              </a:rPr>
              <a:t>Robert E. HEALY (1886-1946)</a:t>
            </a:r>
            <a:endParaRPr b="0" lang="en-US" sz="17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536" name="Espace réservé du numéro de diapositive 3"/>
          <p:cNvSpPr/>
          <p:nvPr/>
        </p:nvSpPr>
        <p:spPr>
          <a:xfrm>
            <a:off x="663480" y="6356520"/>
            <a:ext cx="2146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AF1D-89AC-4E5F-8455-82B28A39B184}" type="slidenum">
              <a:rPr b="0" lang="fr-FR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ZoneTexte 4"/>
          <p:cNvSpPr/>
          <p:nvPr/>
        </p:nvSpPr>
        <p:spPr>
          <a:xfrm>
            <a:off x="0" y="5589720"/>
            <a:ext cx="990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e0000"/>
                </a:solidFill>
                <a:latin typeface="Arial"/>
              </a:rPr>
              <a:t>La crise de 2007-???? a de nombreuses causes structurelles et intellectuelles commu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8e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8e0000"/>
                </a:solidFill>
                <a:latin typeface="Arial"/>
              </a:rPr>
              <a:t>avec celles de 1929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Espace réservé du pied de page 5"/>
          <p:cNvSpPr/>
          <p:nvPr/>
        </p:nvSpPr>
        <p:spPr>
          <a:xfrm>
            <a:off x="313992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64653"/>
                </a:solidFill>
                <a:latin typeface="Arial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Espace réservé du numéro de diapositive 1"/>
          <p:cNvSpPr/>
          <p:nvPr/>
        </p:nvSpPr>
        <p:spPr>
          <a:xfrm>
            <a:off x="663480" y="6356520"/>
            <a:ext cx="2146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22AA-8DC5-4B6D-8885-1983F3146614}" type="slidenum">
              <a:rPr b="0" lang="fr-FR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88880" y="112500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ts val="15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Gill Sans MT"/>
              </a:rPr>
              <a:t>Ne pas être naïf : l’économie ressort aussi des sciences politiques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ts val="15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Gill Sans MT"/>
              </a:rPr>
              <a:t>Elle a besoin d’un dispositif d’équilibre entre les principaux centres de pouvoir de type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ts val="15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Gill Sans MT"/>
              </a:rPr>
              <a:t>          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Gill Sans MT"/>
              </a:rPr>
              <a:t>« </a:t>
            </a:r>
            <a:r>
              <a:rPr b="1" i="1" lang="fr-FR" sz="1600" spc="-1" strike="noStrike">
                <a:solidFill>
                  <a:srgbClr val="000000"/>
                </a:solidFill>
                <a:latin typeface="Gill Sans MT"/>
              </a:rPr>
              <a:t>checks and balances » avec des effets « feed-back »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ts val="15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Gill Sans MT"/>
              </a:rPr>
              <a:t>Il est difficile à concevoir, à faire adopter et à  maintenir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Gill Sans MT"/>
              </a:rPr>
              <a:t>Les régulations efficaces ont toujours deux conséquences principales 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just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464653"/>
                </a:solidFill>
                <a:latin typeface="Gill Sans MT"/>
              </a:rPr>
              <a:t>Frein au développement</a:t>
            </a:r>
            <a:endParaRPr b="0" lang="en-US" sz="1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 algn="just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464653"/>
                </a:solidFill>
                <a:latin typeface="Gill Sans MT"/>
              </a:rPr>
              <a:t>Frein à la capacité d’extraction du cash</a:t>
            </a:r>
            <a:endParaRPr b="0" lang="en-US" sz="1300" spc="-1" strike="noStrike">
              <a:solidFill>
                <a:srgbClr val="464653"/>
              </a:solidFill>
              <a:latin typeface="Gill Sans MT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Gill Sans MT"/>
              </a:rPr>
              <a:t>Une période de prospérité verra toujours une montée des critiques pour :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just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464653"/>
                </a:solidFill>
                <a:latin typeface="Gill Sans MT"/>
              </a:rPr>
              <a:t>Transformer le «dispositif </a:t>
            </a:r>
            <a:r>
              <a:rPr b="0" i="1" lang="fr-FR" sz="1300" spc="-1" strike="noStrike">
                <a:solidFill>
                  <a:srgbClr val="464653"/>
                </a:solidFill>
                <a:latin typeface="Gill Sans MT"/>
              </a:rPr>
              <a:t>feedback</a:t>
            </a:r>
            <a:r>
              <a:rPr b="0" lang="fr-FR" sz="1300" spc="-1" strike="noStrike">
                <a:solidFill>
                  <a:srgbClr val="464653"/>
                </a:solidFill>
                <a:latin typeface="Gill Sans MT"/>
              </a:rPr>
              <a:t> » en « procédures légales»</a:t>
            </a:r>
            <a:endParaRPr b="0" lang="en-US" sz="1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 algn="just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464653"/>
                </a:solidFill>
                <a:latin typeface="Gill Sans MT"/>
              </a:rPr>
              <a:t>Favoriser la constitution d’oligopoles</a:t>
            </a:r>
            <a:endParaRPr b="0" lang="en-US" sz="1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 algn="just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464653"/>
                </a:solidFill>
                <a:latin typeface="Gill Sans MT"/>
              </a:rPr>
              <a:t>Réduire les réserves de prudence par extraction de cash</a:t>
            </a:r>
            <a:endParaRPr b="0" lang="en-US" sz="1300" spc="-1" strike="noStrike">
              <a:solidFill>
                <a:srgbClr val="464653"/>
              </a:solidFill>
              <a:latin typeface="Gill Sans MT"/>
            </a:endParaRPr>
          </a:p>
          <a:p>
            <a:pPr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Gill Sans MT"/>
              </a:rPr>
              <a:t>Les indices d’une « capture régulatoire »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just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464653"/>
                </a:solidFill>
                <a:latin typeface="Gill Sans MT"/>
              </a:rPr>
              <a:t>Mobilité des intervenants : professionnels/régulateurs</a:t>
            </a:r>
            <a:endParaRPr b="0" lang="en-US" sz="1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 algn="just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464653"/>
                </a:solidFill>
                <a:latin typeface="Gill Sans MT"/>
              </a:rPr>
              <a:t>Montée du poids des experts et d’une vision technique</a:t>
            </a:r>
            <a:endParaRPr b="0" lang="en-US" sz="1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 algn="just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464653"/>
                </a:solidFill>
                <a:latin typeface="Gill Sans MT"/>
              </a:rPr>
              <a:t>Discours de type «  </a:t>
            </a:r>
            <a:r>
              <a:rPr b="0" i="1" lang="fr-FR" sz="1300" spc="-1" strike="noStrike">
                <a:solidFill>
                  <a:srgbClr val="464653"/>
                </a:solidFill>
                <a:latin typeface="Gill Sans MT"/>
              </a:rPr>
              <a:t>time is different</a:t>
            </a:r>
            <a:r>
              <a:rPr b="0" lang="fr-FR" sz="1300" spc="-1" strike="noStrike">
                <a:solidFill>
                  <a:srgbClr val="464653"/>
                </a:solidFill>
                <a:latin typeface="Gill Sans MT"/>
              </a:rPr>
              <a:t> »</a:t>
            </a:r>
            <a:endParaRPr b="0" lang="en-US" sz="1300" spc="-1" strike="noStrike">
              <a:solidFill>
                <a:srgbClr val="464653"/>
              </a:solidFill>
              <a:latin typeface="Gill Sans MT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Gill Sans MT"/>
              </a:rPr>
              <a:t>Une convictio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just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464653"/>
                </a:solidFill>
                <a:latin typeface="Gill Sans MT"/>
              </a:rPr>
              <a:t>Le temps principal objet de la finance (engagement /temps) n’est pas réductible par la technique</a:t>
            </a:r>
            <a:endParaRPr b="0" lang="en-US" sz="1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 algn="just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64653"/>
              </a:solidFill>
              <a:latin typeface="Gill Sans MT"/>
            </a:endParaRPr>
          </a:p>
          <a:p>
            <a:pPr algn="just">
              <a:lnSpc>
                <a:spcPts val="15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Gill Sans MT"/>
              </a:rPr>
              <a:t>Penser qu’un « système » est la solution est irréaliste: la sagesse des hommes reste essentielle.</a:t>
            </a:r>
            <a:r>
              <a:rPr b="1" lang="fr-FR" sz="1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 algn="just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 algn="just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 algn="just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541" name="ZoneTexte 5"/>
          <p:cNvSpPr/>
          <p:nvPr/>
        </p:nvSpPr>
        <p:spPr>
          <a:xfrm>
            <a:off x="404640" y="1052640"/>
            <a:ext cx="96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Espace réservé du pied de page 4"/>
          <p:cNvSpPr/>
          <p:nvPr/>
        </p:nvSpPr>
        <p:spPr>
          <a:xfrm>
            <a:off x="313992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464653"/>
                </a:solidFill>
                <a:latin typeface="Arial"/>
              </a:rPr>
              <a:t>COE-REXECODE 1</a:t>
            </a:r>
            <a:r>
              <a:rPr b="0" i="1" lang="en-US" sz="1200" spc="-1" strike="noStrike" baseline="30000">
                <a:solidFill>
                  <a:srgbClr val="464653"/>
                </a:solidFill>
                <a:latin typeface="Arial"/>
              </a:rPr>
              <a:t>er</a:t>
            </a:r>
            <a:r>
              <a:rPr b="0" i="1" lang="en-US" sz="1200" spc="-1" strike="noStrike">
                <a:solidFill>
                  <a:srgbClr val="464653"/>
                </a:solidFill>
                <a:latin typeface="Arial"/>
              </a:rPr>
              <a:t> Décembr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Espace réservé du numéro de diapositive 2"/>
          <p:cNvSpPr/>
          <p:nvPr/>
        </p:nvSpPr>
        <p:spPr>
          <a:xfrm>
            <a:off x="663480" y="6356520"/>
            <a:ext cx="2146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8C41-7C45-4396-A004-6174CF22219C}" type="slidenum">
              <a:rPr b="0" lang="fr-FR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415800" y="2133720"/>
            <a:ext cx="9074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s trois sorcières et leurs trois utop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SzPct val="107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 déséquilibre est à la base du développement économ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SzPct val="107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dette produit toujours de la riche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SzPct val="107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ous les risques sont calcul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ZoneTexte 4"/>
          <p:cNvSpPr/>
          <p:nvPr/>
        </p:nvSpPr>
        <p:spPr>
          <a:xfrm>
            <a:off x="1024560" y="1628640"/>
            <a:ext cx="824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Macbeth a rencontré trois sorcières ………le monde également en a croisé tr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pied de page 5"/>
          <p:cNvSpPr/>
          <p:nvPr/>
        </p:nvSpPr>
        <p:spPr>
          <a:xfrm>
            <a:off x="313992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64653"/>
                </a:solidFill>
                <a:latin typeface="Arial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Espace réservé du numéro de diapositive 3"/>
          <p:cNvSpPr/>
          <p:nvPr/>
        </p:nvSpPr>
        <p:spPr>
          <a:xfrm>
            <a:off x="663480" y="6356520"/>
            <a:ext cx="2146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7164-EBF2-4D67-B0D5-C10408DEE8D8}" type="slidenum">
              <a:rPr b="0" lang="fr-FR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88520" y="1989000"/>
            <a:ext cx="89154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Le système économique……………………. </a:t>
            </a:r>
            <a:r>
              <a:rPr b="0" lang="fr-FR" sz="2400" spc="-1" strike="noStrike">
                <a:solidFill>
                  <a:srgbClr val="c00000"/>
                </a:solidFill>
                <a:latin typeface="Gill Sans MT"/>
              </a:rPr>
              <a:t>face aux  sorciè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Gill Sans MT"/>
              </a:rPr>
              <a:t>Pilier 1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 : le commerce international……………………………….....</a:t>
            </a:r>
            <a:r>
              <a:rPr b="0" lang="fr-FR" sz="2000" spc="-1" strike="noStrike">
                <a:solidFill>
                  <a:srgbClr val="c00000"/>
                </a:solidFill>
                <a:latin typeface="Gill Sans MT"/>
              </a:rPr>
              <a:t>utopie n°1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Gill Sans MT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Gill Sans MT"/>
              </a:rPr>
              <a:t>Pilier 2</a:t>
            </a:r>
            <a:r>
              <a:rPr b="0" lang="fr-FR" sz="2000" spc="-1" strike="noStrike">
                <a:solidFill>
                  <a:srgbClr val="c00000"/>
                </a:solidFill>
                <a:latin typeface="Gill Sans MT"/>
              </a:rPr>
              <a:t> : 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le système monétaire international (SMI)………………...</a:t>
            </a:r>
            <a:r>
              <a:rPr b="0" lang="fr-FR" sz="2000" spc="-1" strike="noStrike">
                <a:solidFill>
                  <a:srgbClr val="c00000"/>
                </a:solidFill>
                <a:latin typeface="Gill Sans MT"/>
              </a:rPr>
              <a:t>utopie n°2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++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Gill Sans MT"/>
              </a:rPr>
              <a:t>Greffon</a:t>
            </a:r>
            <a:r>
              <a:rPr b="0" lang="fr-FR" sz="2000" spc="-1" strike="noStrike">
                <a:solidFill>
                  <a:srgbClr val="c00000"/>
                </a:solidFill>
                <a:latin typeface="Gill Sans MT"/>
              </a:rPr>
              <a:t>: </a:t>
            </a: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le système bancaire et financier………..…………………</a:t>
            </a:r>
            <a:r>
              <a:rPr b="0" lang="fr-FR" sz="2000" spc="-1" strike="noStrike">
                <a:solidFill>
                  <a:srgbClr val="c00000"/>
                </a:solidFill>
                <a:latin typeface="Gill Sans MT"/>
              </a:rPr>
              <a:t>utopie n°3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ZoneTexte 3"/>
          <p:cNvSpPr/>
          <p:nvPr/>
        </p:nvSpPr>
        <p:spPr>
          <a:xfrm>
            <a:off x="200160" y="1268280"/>
            <a:ext cx="950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Une organisation économique globale reposant sur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deux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piliers avec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un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 greffon très développé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ZoneTexte 4"/>
          <p:cNvSpPr/>
          <p:nvPr/>
        </p:nvSpPr>
        <p:spPr>
          <a:xfrm>
            <a:off x="415800" y="5661000"/>
            <a:ext cx="92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Le système monétaire international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…………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le dispositif le plus absent des grands débats de 1990 à 2008…et pourtant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Espace réservé du pied de page 5"/>
          <p:cNvSpPr/>
          <p:nvPr/>
        </p:nvSpPr>
        <p:spPr>
          <a:xfrm>
            <a:off x="313992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Espace réservé du numéro de diapositive 1"/>
          <p:cNvSpPr/>
          <p:nvPr/>
        </p:nvSpPr>
        <p:spPr>
          <a:xfrm>
            <a:off x="631800" y="6381720"/>
            <a:ext cx="2146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4C2E-88F8-438B-BC86-0B76B7113DE5}" type="slidenum">
              <a:rPr b="0" lang="fr-FR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88880" y="5157360"/>
            <a:ext cx="88567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96680" indent="-34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Gill Sans MT"/>
              </a:rPr>
              <a:t>Le monde est bien au prise avec la tentation de Macbeth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96680" indent="-3441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Gill Sans MT"/>
              </a:rPr>
              <a:t>« …….s’extraire de réalité et vouloir atteindre dans l’instant ce qu’il pense être son but ultime…… »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ZoneTexte 5"/>
          <p:cNvSpPr/>
          <p:nvPr/>
        </p:nvSpPr>
        <p:spPr>
          <a:xfrm>
            <a:off x="560520" y="981000"/>
            <a:ext cx="892800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Arial"/>
              </a:rPr>
              <a:t>LA CRISE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Résultat de déséquilibres délibérés dans l’économie réelle</a:t>
            </a:r>
            <a:r>
              <a:rPr b="0" lang="fr-FR" sz="2000" spc="-1" strike="noStrike">
                <a:solidFill>
                  <a:srgbClr val="c00000"/>
                </a:solidFill>
                <a:latin typeface="Gill Sans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0" lang="fr-FR" sz="2000" spc="-1" strike="noStrike">
                <a:solidFill>
                  <a:srgbClr val="c00000"/>
                </a:solidFill>
                <a:latin typeface="Gill Sans MT"/>
              </a:rPr>
              <a:t>pa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Gill Sans MT"/>
              </a:rPr>
              <a:t>Acceptation des conséquenc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Gill Sans MT"/>
              </a:rPr>
              <a:t>délocalisation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Gill Sans MT"/>
              </a:rPr>
              <a:t>Sous-activité structurel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Gill Sans MT"/>
              </a:rPr>
              <a:t>Distorsions des revenu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00000"/>
                </a:solidFill>
                <a:latin typeface="Gill Sans MT"/>
              </a:rPr>
              <a:t>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Gill Sans MT"/>
              </a:rPr>
              <a:t>la montée généralisée de la </a:t>
            </a:r>
            <a:r>
              <a:rPr b="0" lang="fr-FR" sz="2000" spc="-1" strike="noStrike">
                <a:solidFill>
                  <a:srgbClr val="c00000"/>
                </a:solidFill>
                <a:latin typeface="Gill Sans MT"/>
              </a:rPr>
              <a:t>de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00000"/>
                </a:solidFill>
                <a:latin typeface="Gill Sans MT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ill Sans MT"/>
              </a:rPr>
              <a:t>Refus des cycles économiques et des contraintes au profit de la vite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Espace réservé du pied de page 4"/>
          <p:cNvSpPr/>
          <p:nvPr/>
        </p:nvSpPr>
        <p:spPr>
          <a:xfrm>
            <a:off x="313992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Espace réservé du numéro de diapositive 5"/>
          <p:cNvSpPr/>
          <p:nvPr/>
        </p:nvSpPr>
        <p:spPr>
          <a:xfrm>
            <a:off x="663480" y="6356520"/>
            <a:ext cx="2146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C770-6846-4DF5-9CA2-E344EE57505A}" type="slidenum">
              <a:rPr b="0" lang="fr-FR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88880" y="1298160"/>
            <a:ext cx="924408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Les relations / interactions entre les deux phénomèn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9856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L’économie mondiale depuis 1945 repose sur deux piliers :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9856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11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9" name="Diagramme 3" descr=""/>
          <p:cNvPicPr/>
          <p:nvPr/>
        </p:nvPicPr>
        <p:blipFill>
          <a:blip r:embed="rId1"/>
          <a:stretch/>
        </p:blipFill>
        <p:spPr>
          <a:xfrm>
            <a:off x="79200" y="1951200"/>
            <a:ext cx="9704520" cy="3498840"/>
          </a:xfrm>
          <a:prstGeom prst="rect">
            <a:avLst/>
          </a:prstGeom>
          <a:ln w="0">
            <a:noFill/>
          </a:ln>
        </p:spPr>
      </p:pic>
      <p:grpSp>
        <p:nvGrpSpPr>
          <p:cNvPr id="420" name="Flèche vers le bas 1"/>
          <p:cNvGrpSpPr/>
          <p:nvPr/>
        </p:nvGrpSpPr>
        <p:grpSpPr>
          <a:xfrm>
            <a:off x="1908000" y="4273560"/>
            <a:ext cx="1043280" cy="317520"/>
            <a:chOff x="1908000" y="4273560"/>
            <a:chExt cx="1043280" cy="317520"/>
          </a:xfrm>
        </p:grpSpPr>
        <p:pic>
          <p:nvPicPr>
            <p:cNvPr id="421" name="Flèche vers le bas 1" descr=""/>
            <p:cNvPicPr/>
            <p:nvPr/>
          </p:nvPicPr>
          <p:blipFill>
            <a:blip r:embed="rId2"/>
            <a:stretch/>
          </p:blipFill>
          <p:spPr>
            <a:xfrm>
              <a:off x="1908000" y="4273560"/>
              <a:ext cx="104328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2181240" y="4292640"/>
              <a:ext cx="5032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Rectangle à coins arrondis 4"/>
          <p:cNvGrpSpPr/>
          <p:nvPr/>
        </p:nvGrpSpPr>
        <p:grpSpPr>
          <a:xfrm>
            <a:off x="133200" y="4754520"/>
            <a:ext cx="4591080" cy="1060560"/>
            <a:chOff x="133200" y="4754520"/>
            <a:chExt cx="4591080" cy="1060560"/>
          </a:xfrm>
        </p:grpSpPr>
        <p:pic>
          <p:nvPicPr>
            <p:cNvPr id="424" name="Rectangle à coins arrondis 4" descr=""/>
            <p:cNvPicPr/>
            <p:nvPr/>
          </p:nvPicPr>
          <p:blipFill>
            <a:blip r:embed="rId3"/>
            <a:stretch/>
          </p:blipFill>
          <p:spPr>
            <a:xfrm>
              <a:off x="133200" y="4754520"/>
              <a:ext cx="4591080" cy="10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246240" y="4843440"/>
              <a:ext cx="4373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Gill Sans MT"/>
                </a:rPr>
                <a:t>Déséquilibres structure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Gill Sans MT"/>
                </a:rPr>
                <a:t>d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Gill Sans MT"/>
                </a:rPr>
                <a:t>balances courant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Flèche vers le bas 14"/>
          <p:cNvGrpSpPr/>
          <p:nvPr/>
        </p:nvGrpSpPr>
        <p:grpSpPr>
          <a:xfrm>
            <a:off x="6937200" y="5284800"/>
            <a:ext cx="1036800" cy="317520"/>
            <a:chOff x="6937200" y="5284800"/>
            <a:chExt cx="1036800" cy="317520"/>
          </a:xfrm>
        </p:grpSpPr>
        <p:pic>
          <p:nvPicPr>
            <p:cNvPr id="427" name="Flèche vers le bas 14" descr=""/>
            <p:cNvPicPr/>
            <p:nvPr/>
          </p:nvPicPr>
          <p:blipFill>
            <a:blip r:embed="rId4"/>
            <a:stretch/>
          </p:blipFill>
          <p:spPr>
            <a:xfrm>
              <a:off x="6937200" y="5284800"/>
              <a:ext cx="103680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7207200" y="5300640"/>
              <a:ext cx="5047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Rectangle à coins arrondis 15"/>
          <p:cNvGrpSpPr/>
          <p:nvPr/>
        </p:nvGrpSpPr>
        <p:grpSpPr>
          <a:xfrm>
            <a:off x="5157720" y="5619600"/>
            <a:ext cx="4595760" cy="781200"/>
            <a:chOff x="5157720" y="5619600"/>
            <a:chExt cx="4595760" cy="781200"/>
          </a:xfrm>
        </p:grpSpPr>
        <p:pic>
          <p:nvPicPr>
            <p:cNvPr id="430" name="Rectangle à coins arrondis 15" descr=""/>
            <p:cNvPicPr/>
            <p:nvPr/>
          </p:nvPicPr>
          <p:blipFill>
            <a:blip r:embed="rId5"/>
            <a:stretch/>
          </p:blipFill>
          <p:spPr>
            <a:xfrm>
              <a:off x="5157720" y="5619600"/>
              <a:ext cx="45957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5259240" y="5692680"/>
              <a:ext cx="4402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Gill Sans MT"/>
                </a:rPr>
                <a:t>Les changes sont quasi fixes, sauf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Espace réservé du pied de page 8"/>
          <p:cNvSpPr/>
          <p:nvPr/>
        </p:nvSpPr>
        <p:spPr>
          <a:xfrm>
            <a:off x="313992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Objet 1"/>
          <p:cNvGraphicFramePr/>
          <p:nvPr/>
        </p:nvGraphicFramePr>
        <p:xfrm>
          <a:off x="1100160" y="2050920"/>
          <a:ext cx="7149960" cy="404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Obje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0160" y="2050920"/>
                    <a:ext cx="7149960" cy="40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ZoneTexte 1"/>
          <p:cNvSpPr/>
          <p:nvPr/>
        </p:nvSpPr>
        <p:spPr>
          <a:xfrm>
            <a:off x="1180800" y="5938920"/>
            <a:ext cx="75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 évènement externe au système mais sans régulation (feedback) systéma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ZoneTexte 11"/>
          <p:cNvSpPr/>
          <p:nvPr/>
        </p:nvSpPr>
        <p:spPr>
          <a:xfrm>
            <a:off x="127080" y="907920"/>
            <a:ext cx="966132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e9e3e1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Espace réservé du numéro de diapositive 1"/>
          <p:cNvSpPr/>
          <p:nvPr/>
        </p:nvSpPr>
        <p:spPr>
          <a:xfrm>
            <a:off x="663480" y="6356520"/>
            <a:ext cx="2146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27E3-76D6-4D0A-A1F4-6BB24E255E47}" type="slidenum">
              <a:rPr b="0" lang="fr-FR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60160" y="1163520"/>
            <a:ext cx="885636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Réserves de change des banques centrales asiatiqu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Légende encadrée avec une bordure 3 2"/>
          <p:cNvSpPr/>
          <p:nvPr/>
        </p:nvSpPr>
        <p:spPr>
          <a:xfrm flipH="1">
            <a:off x="1712160" y="3429000"/>
            <a:ext cx="3095640" cy="50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800" y="4000"/>
                </a:moveTo>
                <a:lnTo>
                  <a:pt x="-3600" y="4000"/>
                </a:lnTo>
                <a:lnTo>
                  <a:pt x="-6950" y="11509"/>
                </a:lnTo>
                <a:lnTo>
                  <a:pt x="-13092" y="26082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d2c7c3"/>
          </a:solidFill>
          <a:ln w="9360">
            <a:solidFill>
              <a:srgbClr val="6a56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éserves de 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hine + Japon + Corée +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1017720" y="1773360"/>
            <a:ext cx="83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MAS US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8"/>
          <p:cNvSpPr/>
          <p:nvPr/>
        </p:nvSpPr>
        <p:spPr>
          <a:xfrm>
            <a:off x="7454880" y="1773360"/>
            <a:ext cx="838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PIB 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Espace réservé du pied de page 9"/>
          <p:cNvSpPr/>
          <p:nvPr/>
        </p:nvSpPr>
        <p:spPr>
          <a:xfrm>
            <a:off x="313992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Espace réservé du numéro de diapositive 1"/>
          <p:cNvSpPr/>
          <p:nvPr/>
        </p:nvSpPr>
        <p:spPr>
          <a:xfrm>
            <a:off x="663480" y="6356520"/>
            <a:ext cx="2146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2B63-2C4B-4417-9094-2473F5A74F30}" type="slidenum">
              <a:rPr b="0" lang="fr-FR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88880" y="1484280"/>
            <a:ext cx="8928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Gill Sans MT"/>
              </a:rPr>
              <a:t>La dette américaine théoriquement sous régulation (légale)</a:t>
            </a:r>
            <a:r>
              <a:rPr b="1" lang="fr-FR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Gill Sans MT"/>
              </a:rPr>
              <a:t>QUO NON ASCENDET – Devise de l’Intendant Fouquet 1615-1680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ZoneTexte 12"/>
          <p:cNvSpPr/>
          <p:nvPr/>
        </p:nvSpPr>
        <p:spPr>
          <a:xfrm>
            <a:off x="488880" y="1095480"/>
            <a:ext cx="89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Arial"/>
              </a:rPr>
              <a:t>LA CRISE : Résultat d’évolutions incontrôl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13" descr=""/>
          <p:cNvPicPr/>
          <p:nvPr/>
        </p:nvPicPr>
        <p:blipFill>
          <a:blip r:embed="rId1"/>
          <a:stretch/>
        </p:blipFill>
        <p:spPr>
          <a:xfrm>
            <a:off x="920880" y="2060640"/>
            <a:ext cx="7632720" cy="4321080"/>
          </a:xfrm>
          <a:prstGeom prst="rect">
            <a:avLst/>
          </a:prstGeom>
          <a:ln w="0">
            <a:noFill/>
          </a:ln>
        </p:spPr>
      </p:pic>
      <p:sp>
        <p:nvSpPr>
          <p:cNvPr id="447" name="Espace réservé du pied de page 5"/>
          <p:cNvSpPr/>
          <p:nvPr/>
        </p:nvSpPr>
        <p:spPr>
          <a:xfrm>
            <a:off x="313992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Rectangle à coins arrondis 4"/>
          <p:cNvGrpSpPr/>
          <p:nvPr/>
        </p:nvGrpSpPr>
        <p:grpSpPr>
          <a:xfrm>
            <a:off x="463680" y="2249640"/>
            <a:ext cx="3565440" cy="438120"/>
            <a:chOff x="463680" y="2249640"/>
            <a:chExt cx="3565440" cy="438120"/>
          </a:xfrm>
        </p:grpSpPr>
        <p:pic>
          <p:nvPicPr>
            <p:cNvPr id="449" name="Rectangle à coins arrondis 4" descr=""/>
            <p:cNvPicPr/>
            <p:nvPr/>
          </p:nvPicPr>
          <p:blipFill>
            <a:blip r:embed="rId1"/>
            <a:stretch/>
          </p:blipFill>
          <p:spPr>
            <a:xfrm>
              <a:off x="463680" y="2249640"/>
              <a:ext cx="356544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500040" y="2289240"/>
              <a:ext cx="3497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Maintien des déséquilibres (P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Rectangle à coins arrondis 14"/>
          <p:cNvGrpSpPr/>
          <p:nvPr/>
        </p:nvGrpSpPr>
        <p:grpSpPr>
          <a:xfrm>
            <a:off x="463680" y="2889360"/>
            <a:ext cx="3565440" cy="407880"/>
            <a:chOff x="463680" y="2889360"/>
            <a:chExt cx="3565440" cy="407880"/>
          </a:xfrm>
        </p:grpSpPr>
        <p:pic>
          <p:nvPicPr>
            <p:cNvPr id="452" name="Rectangle à coins arrondis 14" descr=""/>
            <p:cNvPicPr/>
            <p:nvPr/>
          </p:nvPicPr>
          <p:blipFill>
            <a:blip r:embed="rId2"/>
            <a:stretch/>
          </p:blipFill>
          <p:spPr>
            <a:xfrm>
              <a:off x="463680" y="2889360"/>
              <a:ext cx="3565440" cy="4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498600" y="2927520"/>
              <a:ext cx="350028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</a:t>
              </a: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Réserves de change (P2)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Flèche droite 5"/>
          <p:cNvGrpSpPr/>
          <p:nvPr/>
        </p:nvGrpSpPr>
        <p:grpSpPr>
          <a:xfrm>
            <a:off x="4138560" y="2262240"/>
            <a:ext cx="682560" cy="431640"/>
            <a:chOff x="4138560" y="2262240"/>
            <a:chExt cx="682560" cy="431640"/>
          </a:xfrm>
        </p:grpSpPr>
        <p:pic>
          <p:nvPicPr>
            <p:cNvPr id="455" name="Flèche droite 5" descr=""/>
            <p:cNvPicPr/>
            <p:nvPr/>
          </p:nvPicPr>
          <p:blipFill>
            <a:blip r:embed="rId3"/>
            <a:stretch/>
          </p:blipFill>
          <p:spPr>
            <a:xfrm>
              <a:off x="4138560" y="2262240"/>
              <a:ext cx="68256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4159080" y="2378160"/>
              <a:ext cx="54936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Rectangle à coins arrondis 17"/>
          <p:cNvSpPr/>
          <p:nvPr/>
        </p:nvSpPr>
        <p:spPr>
          <a:xfrm>
            <a:off x="4857840" y="2133720"/>
            <a:ext cx="2975040" cy="57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Cumul de réserves de change Banque centrale (P2)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</a:t>
            </a: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à coins arrondis 19"/>
          <p:cNvSpPr/>
          <p:nvPr/>
        </p:nvSpPr>
        <p:spPr>
          <a:xfrm>
            <a:off x="4857840" y="2782800"/>
            <a:ext cx="2975040" cy="63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</a:t>
            </a: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Gill Sans MT"/>
              </a:rPr>
              <a:t>dépôts Bancaires dans les systèmes US et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Rectangle à coins arrondis 27"/>
          <p:cNvGrpSpPr/>
          <p:nvPr/>
        </p:nvGrpSpPr>
        <p:grpSpPr>
          <a:xfrm>
            <a:off x="6151680" y="3425760"/>
            <a:ext cx="3247920" cy="523800"/>
            <a:chOff x="6151680" y="3425760"/>
            <a:chExt cx="3247920" cy="523800"/>
          </a:xfrm>
        </p:grpSpPr>
        <p:pic>
          <p:nvPicPr>
            <p:cNvPr id="460" name="Rectangle à coins arrondis 27" descr=""/>
            <p:cNvPicPr/>
            <p:nvPr/>
          </p:nvPicPr>
          <p:blipFill>
            <a:blip r:embed="rId4"/>
            <a:stretch/>
          </p:blipFill>
          <p:spPr>
            <a:xfrm>
              <a:off x="6151680" y="3425760"/>
              <a:ext cx="324792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6262560" y="3486240"/>
              <a:ext cx="30639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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Des dettes/cré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Rectangle à coins arrondis 28"/>
          <p:cNvGrpSpPr/>
          <p:nvPr/>
        </p:nvGrpSpPr>
        <p:grpSpPr>
          <a:xfrm>
            <a:off x="3236760" y="5340240"/>
            <a:ext cx="3505320" cy="908280"/>
            <a:chOff x="3236760" y="5340240"/>
            <a:chExt cx="3505320" cy="908280"/>
          </a:xfrm>
        </p:grpSpPr>
        <p:pic>
          <p:nvPicPr>
            <p:cNvPr id="463" name="Rectangle à coins arrondis 28" descr=""/>
            <p:cNvPicPr/>
            <p:nvPr/>
          </p:nvPicPr>
          <p:blipFill>
            <a:blip r:embed="rId5"/>
            <a:stretch/>
          </p:blipFill>
          <p:spPr>
            <a:xfrm>
              <a:off x="3236760" y="5340240"/>
              <a:ext cx="350532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3335400" y="5413320"/>
              <a:ext cx="331308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Stimulation de plus en plus forte de l’activité économiq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Rectangle à coins arrondis 29"/>
          <p:cNvGrpSpPr/>
          <p:nvPr/>
        </p:nvGrpSpPr>
        <p:grpSpPr>
          <a:xfrm>
            <a:off x="6151680" y="3925800"/>
            <a:ext cx="3247920" cy="523800"/>
            <a:chOff x="6151680" y="3925800"/>
            <a:chExt cx="3247920" cy="523800"/>
          </a:xfrm>
        </p:grpSpPr>
        <p:pic>
          <p:nvPicPr>
            <p:cNvPr id="466" name="Rectangle à coins arrondis 29" descr=""/>
            <p:cNvPicPr/>
            <p:nvPr/>
          </p:nvPicPr>
          <p:blipFill>
            <a:blip r:embed="rId6"/>
            <a:stretch/>
          </p:blipFill>
          <p:spPr>
            <a:xfrm>
              <a:off x="6151680" y="3925800"/>
              <a:ext cx="324792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6262560" y="3990960"/>
              <a:ext cx="30639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réation monétai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Rectangle à coins arrondis 30"/>
          <p:cNvGrpSpPr/>
          <p:nvPr/>
        </p:nvGrpSpPr>
        <p:grpSpPr>
          <a:xfrm>
            <a:off x="6151680" y="4400640"/>
            <a:ext cx="3247920" cy="525240"/>
            <a:chOff x="6151680" y="4400640"/>
            <a:chExt cx="3247920" cy="525240"/>
          </a:xfrm>
        </p:grpSpPr>
        <p:pic>
          <p:nvPicPr>
            <p:cNvPr id="469" name="Rectangle à coins arrondis 30" descr=""/>
            <p:cNvPicPr/>
            <p:nvPr/>
          </p:nvPicPr>
          <p:blipFill>
            <a:blip r:embed="rId7"/>
            <a:stretch/>
          </p:blipFill>
          <p:spPr>
            <a:xfrm>
              <a:off x="6151680" y="4400640"/>
              <a:ext cx="3247920" cy="52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6262560" y="4464000"/>
              <a:ext cx="30639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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des activités bancai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Rectangle 15"/>
          <p:cNvGrpSpPr/>
          <p:nvPr/>
        </p:nvGrpSpPr>
        <p:grpSpPr>
          <a:xfrm>
            <a:off x="5894280" y="3449520"/>
            <a:ext cx="262080" cy="1487520"/>
            <a:chOff x="5894280" y="3449520"/>
            <a:chExt cx="262080" cy="1487520"/>
          </a:xfrm>
        </p:grpSpPr>
        <p:pic>
          <p:nvPicPr>
            <p:cNvPr id="472" name="Rectangle 15" descr=""/>
            <p:cNvPicPr/>
            <p:nvPr/>
          </p:nvPicPr>
          <p:blipFill>
            <a:blip r:embed="rId8"/>
            <a:stretch/>
          </p:blipFill>
          <p:spPr>
            <a:xfrm>
              <a:off x="5894280" y="3449520"/>
              <a:ext cx="26208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5956200" y="3486240"/>
              <a:ext cx="142920" cy="13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Forme en L 20"/>
          <p:cNvGrpSpPr/>
          <p:nvPr/>
        </p:nvGrpSpPr>
        <p:grpSpPr>
          <a:xfrm>
            <a:off x="5181480" y="3376440"/>
            <a:ext cx="762120" cy="1073160"/>
            <a:chOff x="5181480" y="3376440"/>
            <a:chExt cx="762120" cy="1073160"/>
          </a:xfrm>
        </p:grpSpPr>
        <p:pic>
          <p:nvPicPr>
            <p:cNvPr id="475" name="Forme en L 20" descr=""/>
            <p:cNvPicPr/>
            <p:nvPr/>
          </p:nvPicPr>
          <p:blipFill>
            <a:blip r:embed="rId9"/>
            <a:stretch/>
          </p:blipFill>
          <p:spPr>
            <a:xfrm>
              <a:off x="5181480" y="3376440"/>
              <a:ext cx="76212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240160" y="3414600"/>
              <a:ext cx="136800" cy="9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Flèche vers le bas 21"/>
          <p:cNvGrpSpPr/>
          <p:nvPr/>
        </p:nvGrpSpPr>
        <p:grpSpPr>
          <a:xfrm>
            <a:off x="4614840" y="4675320"/>
            <a:ext cx="974880" cy="920520"/>
            <a:chOff x="4614840" y="4675320"/>
            <a:chExt cx="974880" cy="920520"/>
          </a:xfrm>
        </p:grpSpPr>
        <p:pic>
          <p:nvPicPr>
            <p:cNvPr id="478" name="Flèche vers le bas 21" descr=""/>
            <p:cNvPicPr/>
            <p:nvPr/>
          </p:nvPicPr>
          <p:blipFill>
            <a:blip r:embed="rId10"/>
            <a:stretch/>
          </p:blipFill>
          <p:spPr>
            <a:xfrm>
              <a:off x="4614840" y="4675320"/>
              <a:ext cx="9748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4805280" y="4724280"/>
              <a:ext cx="27936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Rectangle 31"/>
          <p:cNvSpPr/>
          <p:nvPr/>
        </p:nvSpPr>
        <p:spPr>
          <a:xfrm>
            <a:off x="2048040" y="3616200"/>
            <a:ext cx="49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Espace réservé du numéro de diapositive 1"/>
          <p:cNvSpPr/>
          <p:nvPr/>
        </p:nvSpPr>
        <p:spPr>
          <a:xfrm>
            <a:off x="704880" y="640872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2300-26C5-4490-9111-BEF27D0B9F5B}" type="slidenum">
              <a:rPr b="0" lang="fr-FR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ZoneTexte 2"/>
          <p:cNvSpPr/>
          <p:nvPr/>
        </p:nvSpPr>
        <p:spPr>
          <a:xfrm>
            <a:off x="0" y="1343160"/>
            <a:ext cx="990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processus de création monétaire identifié par Jacques Rueff (1931) et ses eff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 la base un dispositif d’échange international </a:t>
            </a: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tronqué (seuls les biens et services circulent entre zones monétair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</a:t>
            </a:r>
            <a:r>
              <a:rPr b="1" i="1" lang="fr-FR" sz="1200" spc="-1" strike="noStrike">
                <a:solidFill>
                  <a:srgbClr val="000000"/>
                </a:solidFill>
                <a:latin typeface="Arial"/>
              </a:rPr>
              <a:t>la contrepartie monétaire du solde commercial reste en zone dollar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Flèche droite 18"/>
          <p:cNvGrpSpPr/>
          <p:nvPr/>
        </p:nvGrpSpPr>
        <p:grpSpPr>
          <a:xfrm>
            <a:off x="4138560" y="2865600"/>
            <a:ext cx="682560" cy="431640"/>
            <a:chOff x="4138560" y="2865600"/>
            <a:chExt cx="682560" cy="431640"/>
          </a:xfrm>
        </p:grpSpPr>
        <p:pic>
          <p:nvPicPr>
            <p:cNvPr id="484" name="Flèche droite 18" descr=""/>
            <p:cNvPicPr/>
            <p:nvPr/>
          </p:nvPicPr>
          <p:blipFill>
            <a:blip r:embed="rId11"/>
            <a:stretch/>
          </p:blipFill>
          <p:spPr>
            <a:xfrm>
              <a:off x="4138560" y="2865600"/>
              <a:ext cx="68256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4159080" y="2984400"/>
              <a:ext cx="54936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ZoneTexte 22"/>
          <p:cNvSpPr/>
          <p:nvPr/>
        </p:nvSpPr>
        <p:spPr>
          <a:xfrm>
            <a:off x="631800" y="4221000"/>
            <a:ext cx="23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Un processus cumulatif toujours en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Espace réservé du pied de page 23"/>
          <p:cNvSpPr/>
          <p:nvPr/>
        </p:nvSpPr>
        <p:spPr>
          <a:xfrm>
            <a:off x="313992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Espace réservé du numéro de diapositive 3"/>
          <p:cNvSpPr/>
          <p:nvPr/>
        </p:nvSpPr>
        <p:spPr>
          <a:xfrm>
            <a:off x="663480" y="6356520"/>
            <a:ext cx="2146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03A0-F4A3-4AC4-A029-62C51B5E02CE}" type="slidenum">
              <a:rPr b="0" lang="fr-FR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Espace réservé du contenu 4"/>
          <p:cNvGraphicFramePr/>
          <p:nvPr/>
        </p:nvGraphicFramePr>
        <p:xfrm>
          <a:off x="1065240" y="1197000"/>
          <a:ext cx="790740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Espace réservé du contenu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5240" y="1197000"/>
                    <a:ext cx="790740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ZoneTexte 5"/>
          <p:cNvSpPr/>
          <p:nvPr/>
        </p:nvSpPr>
        <p:spPr>
          <a:xfrm>
            <a:off x="704880" y="5300640"/>
            <a:ext cx="849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Une explication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Les revenus des activités qui permettent d’assumer la dette ont un poids relatif de plus en plus faible. L’économie devient de plus en plus sensible aux hausses de taux directe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Espace réservé du pied de page 6"/>
          <p:cNvSpPr/>
          <p:nvPr/>
        </p:nvSpPr>
        <p:spPr>
          <a:xfrm>
            <a:off x="3139920" y="6356520"/>
            <a:ext cx="379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Arial"/>
              </a:rPr>
              <a:t>COE-REXECODE 1er Déc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1:38:50Z</dcterms:created>
  <dc:creator>A22419</dc:creator>
  <dc:description/>
  <dc:language>en-US</dc:language>
  <cp:lastModifiedBy>fbl</cp:lastModifiedBy>
  <cp:lastPrinted>2011-12-01T09:43:18Z</cp:lastPrinted>
  <dcterms:modified xsi:type="dcterms:W3CDTF">2011-12-05T14:03:28Z</dcterms:modified>
  <cp:revision>189</cp:revision>
  <dc:subject/>
  <dc:title>Diapositive 1</dc:title>
</cp:coreProperties>
</file>